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1DF6-F044-4136-AA87-B71CBF4D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DEC-F138-4E20-99D3-1599B477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81EB-08DE-4E50-A2F6-7C8E99B1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D533-C64D-400B-8F36-9A3F3C2C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808-D5B4-4B8D-B338-E9708F7D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406-E8B6-47B9-BBAF-1B29E80C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ABAE-5F2D-44A0-B8CB-C9B46138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E68-DEC1-4747-BE8F-14CCE8D1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078-5D2D-4043-BB32-1A367E89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4FB0-9840-418E-ACCB-1DA1D2F2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10F9-DE06-420D-B042-3B61B6E3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69F-A7B0-4A98-868B-ABD042C1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39AB-9529-41F1-94BE-3D50EDFF3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 txBox="1"/>
          <p:nvPr/>
        </p:nvSpPr>
        <p:spPr>
          <a:xfrm rot="5400000">
            <a:off x="5866920" y="3276720"/>
            <a:ext cx="556272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Radioatividade</a:t>
            </a:r>
            <a:endParaRPr b="0" i="1" lang="en-US" sz="24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10.png"/><Relationship Id="rId52" Type="http://schemas.openxmlformats.org/officeDocument/2006/relationships/image" Target="../media/image10.png"/><Relationship Id="rId53" Type="http://schemas.openxmlformats.org/officeDocument/2006/relationships/image" Target="../media/image10.png"/><Relationship Id="rId54" Type="http://schemas.openxmlformats.org/officeDocument/2006/relationships/image" Target="../media/image10.png"/><Relationship Id="rId55" Type="http://schemas.openxmlformats.org/officeDocument/2006/relationships/image" Target="../media/image10.png"/><Relationship Id="rId5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Planejamento e Gestão Ambiental</a:t>
            </a:r>
            <a:br>
              <a:rPr sz="40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ísica Aplicada ao Me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292392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adioativ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4005360"/>
            <a:ext cx="7315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Prof. Ronaldo Chaves Tor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-mail: ronaldotorres@globo.com ou rtorres@petrobras.com.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5445000"/>
            <a:ext cx="1089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missão Nacional de Energia Nuclear- CN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754380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63535"/>
                </a:solidFill>
                <a:latin typeface="Verdana"/>
              </a:rPr>
              <a:t>A CNEN é uma autarquia federal criada em 10 de outubro de 1956 e vinculada ao Ministério de Ciência e Tecnologia. Como órgão superior de planejamento, orientação, supervisão e fiscalização estabelece normas e regulamentos em radioproteção e licencia, fiscaliza e controla a atividade nuclear no Brasil. A CNEN desenvolve ainda pesquisas na utilização de técnicas nucleares em benefício da socied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75B-41D9-4F67-8878-37F113BCDB7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17653-B88A-4E2C-A2E8-870919695E8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Aplicações Nucleares no Me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7467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825"/>
              </a:spcAft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666666"/>
                </a:solidFill>
                <a:latin typeface="Arial"/>
              </a:rPr>
              <a:t>Trata de todas as tecnologias e desenvolvimentos relacionados com as aplicações de radioisótopos e da radiação ionizante nas áreas de monitoração do meio ambiente, quer seja, nos 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estudos de recarga de aqüiferos</a:t>
            </a:r>
            <a:r>
              <a:rPr b="1" lang="pt-BR" sz="2200" spc="-1" strike="noStrike">
                <a:solidFill>
                  <a:srgbClr val="666666"/>
                </a:solidFill>
                <a:latin typeface="Arial"/>
              </a:rPr>
              <a:t>, 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movimentação de águas subterrâneas</a:t>
            </a:r>
            <a:r>
              <a:rPr b="1" lang="pt-BR" sz="2200" spc="-1" strike="noStrike">
                <a:solidFill>
                  <a:srgbClr val="666666"/>
                </a:solidFill>
                <a:latin typeface="Arial"/>
              </a:rPr>
              <a:t>, 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fugas em barragens</a:t>
            </a:r>
            <a:r>
              <a:rPr b="1" lang="pt-BR" sz="2200" spc="-1" strike="noStrike">
                <a:solidFill>
                  <a:srgbClr val="666666"/>
                </a:solidFill>
                <a:latin typeface="Arial"/>
              </a:rPr>
              <a:t>, manejo de águas em regiões semi-áridas, 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dispersão de efluentes e sediment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825"/>
              </a:spcAft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666666"/>
                </a:solidFill>
                <a:latin typeface="Arial"/>
              </a:rPr>
              <a:t>Outras linhas de pesquisa importantes dizem respeito ao acompanhamento e controle de poluentes no meio ambiente, utilizando biomonitores, e à determinação de material particulado no ar, especialmente nas grandes cidad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C080-7F12-4942-8A44-4A450819A01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51676-4FD1-4204-8085-CF547168E6F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Aplicações Nucleares no Me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2193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1100"/>
              </a:spcBef>
              <a:spcAft>
                <a:spcPts val="1239"/>
              </a:spcAft>
              <a:buClr>
                <a:srgbClr val="ff00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63535"/>
                </a:solidFill>
                <a:latin typeface="Arial"/>
              </a:rPr>
              <a:t>TÉCNICAS NUCLEARES EM HIDROGEOLOGIA SUBTERRÂNEA E EM HIDROGEOLOGIA SOTÓP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00"/>
              </a:spcBef>
              <a:spcAft>
                <a:spcPts val="1239"/>
              </a:spcAft>
              <a:buClr>
                <a:srgbClr val="ff00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63535"/>
                </a:solidFill>
                <a:latin typeface="Arial"/>
              </a:rPr>
              <a:t>APROVEITAMENTO DE RECURSOS HÍDRICOS E NATURA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00"/>
              </a:spcBef>
              <a:spcAft>
                <a:spcPts val="1239"/>
              </a:spcAft>
              <a:buClr>
                <a:srgbClr val="ff00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63535"/>
                </a:solidFill>
                <a:latin typeface="Arial"/>
              </a:rPr>
              <a:t>MONITORAÇÃO E AVALIAÇÃO DO IMPACTO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00"/>
              </a:spcBef>
              <a:spcAft>
                <a:spcPts val="1239"/>
              </a:spcAft>
              <a:buClr>
                <a:srgbClr val="ff00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63535"/>
                </a:solidFill>
                <a:latin typeface="Arial"/>
              </a:rPr>
              <a:t>TRANSPORTE E DISPERSÃO DE POLU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00"/>
              </a:spcBef>
              <a:spcAft>
                <a:spcPts val="1239"/>
              </a:spcAft>
              <a:buClr>
                <a:srgbClr val="ff00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63535"/>
                </a:solidFill>
                <a:latin typeface="Arial"/>
              </a:rPr>
              <a:t>TRATAMENTO DE EFLUENTES E REJEI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00"/>
              </a:spcBef>
              <a:spcAft>
                <a:spcPts val="1239"/>
              </a:spcAft>
              <a:buClr>
                <a:srgbClr val="ff00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63535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63535"/>
                </a:solidFill>
                <a:latin typeface="Arial"/>
              </a:rPr>
              <a:t>ANALISADORES DE POLU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97D-0E7C-4E57-A953-DED0DAB4136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75A71-C1A7-46A3-AE3D-7D7EF9E28E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plicações Nucleares na Área Méd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762012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6666"/>
                </a:solidFill>
                <a:latin typeface="Arial"/>
              </a:rPr>
              <a:t>Nas aplicações nucleares na área médica destacam-se duas vertentes principais: diagnóstico e terapia. Para cada um dos dois casos são produzidos e utilizados radioisótopos e radiofármacos específicos que permitem diagnosticar um grande número de doenças em praticamente todos os órgãos do ser humano ou tratar diversas patologias (radioterapia), especialmente o cân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8CA4-DFEE-453A-8DFE-50CE02D9DB1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E7F56-0BB3-4E51-9803-8CA7577F89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plicações Nucleares na Área Méd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75438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499"/>
              </a:spcBef>
              <a:buClr>
                <a:srgbClr val="66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66"/>
                </a:solidFill>
                <a:latin typeface="Verdana"/>
              </a:rPr>
              <a:t>Incluem-se, ainda, as tecnologias e linhas de pesquisa relacionadas com a biotecnologia e radiobiolog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spcBef>
                <a:spcPts val="499"/>
              </a:spcBef>
              <a:buClr>
                <a:srgbClr val="36353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63535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363535"/>
                </a:solidFill>
                <a:latin typeface="Verdana"/>
              </a:rPr>
              <a:t>RADIOFÁRMACOS PARA DIAGNÓSTICO E TERAP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spcBef>
                <a:spcPts val="499"/>
              </a:spcBef>
              <a:buClr>
                <a:srgbClr val="6666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66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363535"/>
                </a:solidFill>
                <a:latin typeface="Verdana"/>
              </a:rPr>
              <a:t>RADIOFÁRMACOS PARA MEDICINA</a:t>
            </a:r>
            <a:r>
              <a:rPr b="1" lang="pt-BR" sz="2000" spc="-1" strike="noStrike">
                <a:solidFill>
                  <a:srgbClr val="6666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spcBef>
                <a:spcPts val="499"/>
              </a:spcBef>
              <a:buClr>
                <a:srgbClr val="6666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66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363535"/>
                </a:solidFill>
                <a:latin typeface="Verdana"/>
              </a:rPr>
              <a:t>RADIOTERAPIA</a:t>
            </a:r>
            <a:r>
              <a:rPr b="1" lang="pt-BR" sz="2000" spc="-1" strike="noStrike">
                <a:solidFill>
                  <a:srgbClr val="6666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spcBef>
                <a:spcPts val="499"/>
              </a:spcBef>
              <a:buClr>
                <a:srgbClr val="6666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66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363535"/>
                </a:solidFill>
                <a:latin typeface="Verdana"/>
              </a:rPr>
              <a:t>BIOTECNOLOGIA</a:t>
            </a:r>
            <a:r>
              <a:rPr b="1" lang="pt-BR" sz="2000" spc="-1" strike="noStrike">
                <a:solidFill>
                  <a:srgbClr val="6666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spcBef>
                <a:spcPts val="499"/>
              </a:spcBef>
              <a:buClr>
                <a:srgbClr val="6666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66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363535"/>
                </a:solidFill>
                <a:latin typeface="Verdana"/>
              </a:rPr>
              <a:t>RADIOBIOLOGIA</a:t>
            </a:r>
            <a:r>
              <a:rPr b="1" lang="pt-BR" sz="2000" spc="-1" strike="noStrike">
                <a:solidFill>
                  <a:srgbClr val="6666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spcBef>
                <a:spcPts val="499"/>
              </a:spcBef>
              <a:buClr>
                <a:srgbClr val="6666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66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363535"/>
                </a:solidFill>
                <a:latin typeface="Verdana"/>
              </a:rPr>
              <a:t>TÉCNICAS DE DIAGNÓSTICO</a:t>
            </a:r>
            <a:r>
              <a:rPr b="1" lang="pt-BR" sz="2000" spc="-1" strike="noStrike">
                <a:solidFill>
                  <a:srgbClr val="6666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spcBef>
                <a:spcPts val="499"/>
              </a:spcBef>
              <a:buClr>
                <a:srgbClr val="6666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66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363535"/>
                </a:solidFill>
                <a:latin typeface="Verdana"/>
              </a:rPr>
              <a:t>IRRADIAÇÃO DE MATERIAIS BI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E2B-F0AB-49F5-9217-5C8EFC3E150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B2018-6EEA-46E4-8FA0-6E12B52646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plicações Nucleares na Ind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75438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Microsoft Sans Serif"/>
              </a:rPr>
              <a:t>Isótopos são usados em análise não destrutiva de materiais e como radiotraçadores em processos industriais tai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59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pt-BR" sz="2000" spc="-1" strike="noStrike">
                <a:solidFill>
                  <a:srgbClr val="000000"/>
                </a:solidFill>
                <a:latin typeface="Microsoft Sans Serif"/>
              </a:rPr>
              <a:t>Medida de desgastes de molas e êmbolos de motor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3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000" spc="-1" strike="noStrike">
                <a:solidFill>
                  <a:srgbClr val="000000"/>
                </a:solidFill>
                <a:latin typeface="Microsoft Sans Serif"/>
              </a:rPr>
              <a:t>Medida de desgastes dos frisos de pneu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imes New Roman"/>
              </a:rPr>
              <a:t>131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pt-BR" sz="2000" spc="-1" strike="noStrike">
                <a:solidFill>
                  <a:srgbClr val="000000"/>
                </a:solidFill>
                <a:latin typeface="Microsoft Sans Serif"/>
              </a:rPr>
              <a:t> Localização de pequenos vazamentos em tubulações de água e medida de espessura de lâminas metál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AE5-E072-4C3D-8B7D-5A969A6D997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321F4-9B2E-4264-8971-B02D939514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plicações Nucleares na Agricultura e Alimen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4000" y="2204640"/>
            <a:ext cx="75438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Alimentos frescos como carnes, peixes, mariscos, aves etc, são submetidos a radiações que destroem fungos e bactérias, principais responsáveis pelo apodrec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895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991-9CF7-4937-A47D-75620554BC9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14A20-57BE-4DF2-9E61-12C4D1754D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895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33400" y="390600"/>
            <a:ext cx="8321760" cy="6510240"/>
            <a:chOff x="833400" y="390600"/>
            <a:chExt cx="8321760" cy="6510240"/>
          </a:xfrm>
        </p:grpSpPr>
        <p:sp>
          <p:nvSpPr>
            <p:cNvPr id="94" name=""/>
            <p:cNvSpPr/>
            <p:nvPr/>
          </p:nvSpPr>
          <p:spPr>
            <a:xfrm>
              <a:off x="833400" y="390600"/>
              <a:ext cx="8229600" cy="65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3400" y="390600"/>
              <a:ext cx="8321760" cy="14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1800" y="672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íduos Nucle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545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1700280"/>
            <a:ext cx="72010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lixo atômico é produzido em todos os estágios do ciclo do combustível nuclear- desde a mineração do urânio até o reprocessamento de combustível nuclear irradiado.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Grande parte desse lixo permanecerá perigoso por milhares de anos, deixando uma herança mortal para as futuras gerações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72AB-38D9-4F29-ACF9-F68B9DDA918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358DB-2C2F-4735-9A93-55E6306497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2895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833400" y="390600"/>
            <a:ext cx="8321760" cy="6510240"/>
            <a:chOff x="833400" y="390600"/>
            <a:chExt cx="8321760" cy="6510240"/>
          </a:xfrm>
        </p:grpSpPr>
        <p:sp>
          <p:nvSpPr>
            <p:cNvPr id="101" name=""/>
            <p:cNvSpPr/>
            <p:nvPr/>
          </p:nvSpPr>
          <p:spPr>
            <a:xfrm>
              <a:off x="833400" y="390600"/>
              <a:ext cx="8229600" cy="65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3400" y="390600"/>
              <a:ext cx="8321760" cy="14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1800" y="672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íduos Nucle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545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1426680"/>
            <a:ext cx="727236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á três categorias de lixo atômico, conforme o seu nível de atividad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spcAft>
                <a:spcPts val="1049"/>
              </a:spcAft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resíduo de alto níve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HLW, de high level wast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spcAft>
                <a:spcPts val="1049"/>
              </a:spcAft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resíduo de nível intermediári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ILW, intermediate level waste);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spcAft>
                <a:spcPts val="1049"/>
              </a:spcAft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resíduo de baixo níve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LLW, de low level waste).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22B-5D14-4A2F-9146-4E6CBF9A0F7C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8DB7B1-1B6D-42A5-9590-733889CF9BF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2895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33400" y="390600"/>
            <a:ext cx="8321760" cy="6510240"/>
            <a:chOff x="833400" y="390600"/>
            <a:chExt cx="8321760" cy="6510240"/>
          </a:xfrm>
        </p:grpSpPr>
        <p:sp>
          <p:nvSpPr>
            <p:cNvPr id="108" name=""/>
            <p:cNvSpPr/>
            <p:nvPr/>
          </p:nvSpPr>
          <p:spPr>
            <a:xfrm>
              <a:off x="833400" y="390600"/>
              <a:ext cx="8229600" cy="65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3400" y="390600"/>
              <a:ext cx="8321760" cy="14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íduos Nucle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545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1179000"/>
            <a:ext cx="748836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HLW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consiste principalmente de combustível irradiado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proveniente dos núcleos de reatores nucleares (embora a indústria nuclear não o considere como "lixo") e de 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resíduos líquidos de alta atividade produzidos durante o reprocessamento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0000"/>
                </a:solidFill>
                <a:latin typeface="Times New Roman"/>
              </a:rPr>
              <a:t>A remoção de plutônio pelo reprocessamento resulta num imenso volume de resíduo líquido radioativo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. Parte desse mortal resíduo de reprocessamento, armazenado em grandes tanques, é misturado com material vítreo quente e solidificado. 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Os blocos de vidro resultantes também são classificados como HLW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. Ainda que o processo de vitrificação possa tornar mais fácil o transporte e o armazenamento do lixo atômico, de forma alguma diminui o terrível risco para as pessoas e o ambiente durante o milênio que virá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0000"/>
                </a:solidFill>
                <a:latin typeface="Times New Roman"/>
              </a:rPr>
              <a:t>DE MANEIRA GERAL, O HLW É MIL VEZES MAIS RADIOATIVO QUE O IL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452-56D2-49FD-8141-AF8264E35352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4C231-96F0-485E-8FD6-4CABB9F8038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066320" y="6094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  <a:ea typeface="Arial"/>
              </a:rPr>
              <a:t>Participação da Energia Nuclear na Matriz Energét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90720" y="1905120"/>
            <a:ext cx="6933600" cy="3798360"/>
            <a:chOff x="990720" y="1905120"/>
            <a:chExt cx="6933600" cy="3798360"/>
          </a:xfrm>
        </p:grpSpPr>
        <p:graphicFrame>
          <p:nvGraphicFramePr>
            <p:cNvPr id="48" name=""/>
            <p:cNvGraphicFramePr/>
            <p:nvPr/>
          </p:nvGraphicFramePr>
          <p:xfrm>
            <a:off x="4724280" y="3241440"/>
            <a:ext cx="3200040" cy="246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24280" y="3241440"/>
                      <a:ext cx="3200040" cy="246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990720" y="2590560"/>
            <a:ext cx="3733560" cy="2714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0720" y="2590560"/>
                      <a:ext cx="373356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1298160" y="1905120"/>
              <a:ext cx="181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 MU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47920" y="2743200"/>
              <a:ext cx="176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 BRAS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1803-3F70-49E7-8F41-0C5EAAB8DC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AD7A7-9966-4150-9FCB-CF7DE4B852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2895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833400" y="390600"/>
            <a:ext cx="8321760" cy="6510240"/>
            <a:chOff x="833400" y="390600"/>
            <a:chExt cx="8321760" cy="6510240"/>
          </a:xfrm>
        </p:grpSpPr>
        <p:sp>
          <p:nvSpPr>
            <p:cNvPr id="115" name=""/>
            <p:cNvSpPr/>
            <p:nvPr/>
          </p:nvSpPr>
          <p:spPr>
            <a:xfrm>
              <a:off x="833400" y="390600"/>
              <a:ext cx="8229600" cy="65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3400" y="390600"/>
              <a:ext cx="8321760" cy="14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1800" y="672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íduos Nucle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545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1515960"/>
            <a:ext cx="748836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siste principalmente d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"latas" de combustível metálic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ue originalmente continham urânio combustível para usinas nucleares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eças de metal do reator e resíduos químico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Têm de ser blindado para proteger operários e outras pessoas contra a exposição durante o transporte e a destinação final. Normalmente, ele é estocado no local em que é produzi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O ILW, DE MANEIRA GERAL, É MIL VEZES MAIS RADIOATIVO QUE O LLW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557-3EC4-4462-8EFD-CF894ED85347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444E7-9C0C-4EB3-A5F1-30938D1A0F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2895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33400" y="390600"/>
            <a:ext cx="8321760" cy="6510240"/>
            <a:chOff x="833400" y="390600"/>
            <a:chExt cx="8321760" cy="6510240"/>
          </a:xfrm>
        </p:grpSpPr>
        <p:sp>
          <p:nvSpPr>
            <p:cNvPr id="122" name=""/>
            <p:cNvSpPr/>
            <p:nvPr/>
          </p:nvSpPr>
          <p:spPr>
            <a:xfrm>
              <a:off x="833400" y="390600"/>
              <a:ext cx="8229600" cy="65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3400" y="390600"/>
              <a:ext cx="8321760" cy="14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1800" y="672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íduos Nucle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545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1484640"/>
            <a:ext cx="7488360" cy="36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L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de ser definido como o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síduo que não requer blindagem durante o manuseio normal e o transpor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 LLW consiste principalmente de itens como roupas de proteção e equipamentos de laboratório que possam ter entrado em contato com material radioativo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1C59-00C9-4F79-AC76-D0578CBA2EE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84D3F-ADDB-48CB-89A0-2CC9D204E8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617400" y="174600"/>
            <a:ext cx="8321760" cy="6510240"/>
            <a:chOff x="617400" y="174600"/>
            <a:chExt cx="8321760" cy="6510240"/>
          </a:xfrm>
        </p:grpSpPr>
        <p:sp>
          <p:nvSpPr>
            <p:cNvPr id="128" name=""/>
            <p:cNvSpPr/>
            <p:nvPr/>
          </p:nvSpPr>
          <p:spPr>
            <a:xfrm>
              <a:off x="617400" y="174600"/>
              <a:ext cx="8229600" cy="65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400" y="174600"/>
              <a:ext cx="8321760" cy="14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9818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stão de Resíduo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3856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600200"/>
            <a:ext cx="4190760" cy="48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crosoft Sans Serif"/>
                <a:ea typeface="Arial"/>
              </a:rPr>
              <a:t>Os </a:t>
            </a:r>
            <a:r>
              <a:rPr b="1" lang="en-US" sz="1800" spc="-1" strike="noStrike">
                <a:solidFill>
                  <a:srgbClr val="0000ff"/>
                </a:solidFill>
                <a:latin typeface="Microsoft Sans Serif"/>
                <a:ea typeface="Arial"/>
              </a:rPr>
              <a:t>rejeitos radioativos</a:t>
            </a:r>
            <a:r>
              <a:rPr b="1" lang="en-US" sz="1600" spc="-1" strike="noStrike">
                <a:solidFill>
                  <a:srgbClr val="000000"/>
                </a:solidFill>
                <a:latin typeface="Microsoft Sans Serif"/>
                <a:ea typeface="Arial"/>
              </a:rPr>
              <a:t> precisam ser cuidados convenientemente para não causar danos ao homem e ao meio ambiente, da mesma forma que qualquer resíduo convencional. </a:t>
            </a:r>
            <a:r>
              <a:rPr b="1" lang="en-US" sz="1600" spc="-1" strike="noStrike">
                <a:solidFill>
                  <a:srgbClr val="ff0000"/>
                </a:solidFill>
                <a:latin typeface="Microsoft Sans Serif"/>
                <a:ea typeface="Arial"/>
              </a:rPr>
              <a:t>Cuidar convenientemente dos rejeitos radioativos significa realizar uma série de ações que vai desde a coleta dos rejeitos no ponto onde são gerados, até sua destinação final</a:t>
            </a:r>
            <a:r>
              <a:rPr b="1" lang="en-US" sz="1600" spc="-1" strike="noStrike">
                <a:solidFill>
                  <a:srgbClr val="000000"/>
                </a:solidFill>
                <a:latin typeface="Microsoft Sans Serif"/>
                <a:ea typeface="Arial"/>
              </a:rPr>
              <a:t>, obedecendo-se aos requisitos de proteção aos trabalhadores, aos indivíduos, do público e ao meio ambien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Microsoft Sans Serif"/>
                <a:ea typeface="Arial"/>
              </a:rPr>
              <a:t>A esta série de ações dá-se o nome de "Gestão de Rejeitos Radioativos</a:t>
            </a:r>
            <a:r>
              <a:rPr b="1" lang="en-US" sz="1600" spc="-1" strike="noStrike">
                <a:solidFill>
                  <a:srgbClr val="000000"/>
                </a:solidFill>
                <a:latin typeface="Microsoft Sans Serif"/>
                <a:ea typeface="Arial"/>
              </a:rPr>
              <a:t>". Ela inclui a coleta, a segregação dos diversos tipos de rejeitos, o tratamento, o armazenamento e a disposição final.</a:t>
            </a:r>
            <a:r>
              <a:rPr b="0" lang="en-US" sz="11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819520" y="1066680"/>
            <a:ext cx="1981080" cy="457200"/>
            <a:chOff x="2819520" y="1066680"/>
            <a:chExt cx="1981080" cy="457200"/>
          </a:xfrm>
        </p:grpSpPr>
        <p:sp>
          <p:nvSpPr>
            <p:cNvPr id="134" name=""/>
            <p:cNvSpPr/>
            <p:nvPr/>
          </p:nvSpPr>
          <p:spPr>
            <a:xfrm>
              <a:off x="2819520" y="1066680"/>
              <a:ext cx="1295280" cy="45720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SEGREG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91120" y="1219320"/>
              <a:ext cx="609480" cy="228600"/>
            </a:xfrm>
            <a:custGeom>
              <a:avLst/>
              <a:gdLst>
                <a:gd name="textAreaLeft" fmla="*/ 95040 w 609480"/>
                <a:gd name="textAreaRight" fmla="*/ 533520 w 60948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76920" y="1143000"/>
            <a:ext cx="1218960" cy="880920"/>
            <a:chOff x="4876920" y="1143000"/>
            <a:chExt cx="1218960" cy="880920"/>
          </a:xfrm>
        </p:grpSpPr>
        <p:sp>
          <p:nvSpPr>
            <p:cNvPr id="137" name=""/>
            <p:cNvSpPr/>
            <p:nvPr/>
          </p:nvSpPr>
          <p:spPr>
            <a:xfrm>
              <a:off x="4876920" y="1143000"/>
              <a:ext cx="1218960" cy="38088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COLE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5400000">
              <a:off x="5267160" y="1666800"/>
              <a:ext cx="423720" cy="290520"/>
            </a:xfrm>
            <a:custGeom>
              <a:avLst/>
              <a:gdLst>
                <a:gd name="textAreaLeft" fmla="*/ 66240 w 423720"/>
                <a:gd name="textAreaRight" fmla="*/ 370800 w 423720"/>
                <a:gd name="textAreaTop" fmla="*/ 72720 h 290520"/>
                <a:gd name="textAreaBottom" fmla="*/ 218160 h 2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800600" y="3124080"/>
            <a:ext cx="144792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ARACTERIZ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724280" y="2057400"/>
            <a:ext cx="1447920" cy="990720"/>
            <a:chOff x="4724280" y="2057400"/>
            <a:chExt cx="1447920" cy="990720"/>
          </a:xfrm>
        </p:grpSpPr>
        <p:sp>
          <p:nvSpPr>
            <p:cNvPr id="141" name=""/>
            <p:cNvSpPr/>
            <p:nvPr/>
          </p:nvSpPr>
          <p:spPr>
            <a:xfrm>
              <a:off x="4724280" y="2057400"/>
              <a:ext cx="1447920" cy="49536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TRANSPOR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5250240" y="2674080"/>
              <a:ext cx="457200" cy="29052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72720 h 290520"/>
                <a:gd name="textAreaBottom" fmla="*/ 218160 h 2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800600" y="4191120"/>
            <a:ext cx="1447920" cy="495360"/>
          </a:xfrm>
          <a:prstGeom prst="flowChartAlternateProcess">
            <a:avLst/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DISPER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5335200" y="3808440"/>
            <a:ext cx="423720" cy="274680"/>
          </a:xfrm>
          <a:custGeom>
            <a:avLst/>
            <a:gdLst>
              <a:gd name="textAreaLeft" fmla="*/ 66240 w 423720"/>
              <a:gd name="textAreaRight" fmla="*/ 370800 w 4237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5257800"/>
            <a:ext cx="1447920" cy="495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ONFIN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5335200" y="4875120"/>
            <a:ext cx="423720" cy="274680"/>
          </a:xfrm>
          <a:custGeom>
            <a:avLst/>
            <a:gdLst>
              <a:gd name="textAreaLeft" fmla="*/ 66240 w 423720"/>
              <a:gd name="textAreaRight" fmla="*/ 370800 w 4237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3124080"/>
            <a:ext cx="144792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RAT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00800" y="327672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0280" y="5257800"/>
            <a:ext cx="152424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ARMAZENAM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EMPORÁ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6324480" y="540972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 rot="8690400">
            <a:off x="6172200" y="3961800"/>
            <a:ext cx="1187280" cy="172800"/>
          </a:xfrm>
          <a:custGeom>
            <a:avLst/>
            <a:gdLst>
              <a:gd name="textAreaLeft" fmla="*/ 185400 w 1187280"/>
              <a:gd name="textAreaRight" fmla="*/ 1038960 w 1187280"/>
              <a:gd name="textAreaTop" fmla="*/ 43200 h 172800"/>
              <a:gd name="textAreaBottom" fmla="*/ 129600 h 172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7002720" y="4274280"/>
            <a:ext cx="1371600" cy="2905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E923-A683-45C0-B8CB-554D74114851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BC7AB-E68A-49E7-8E15-806838EF6A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617400" y="174600"/>
            <a:ext cx="8321760" cy="6510240"/>
            <a:chOff x="617400" y="174600"/>
            <a:chExt cx="8321760" cy="6510240"/>
          </a:xfrm>
        </p:grpSpPr>
        <p:sp>
          <p:nvSpPr>
            <p:cNvPr id="154" name=""/>
            <p:cNvSpPr/>
            <p:nvPr/>
          </p:nvSpPr>
          <p:spPr>
            <a:xfrm>
              <a:off x="617400" y="174600"/>
              <a:ext cx="8229600" cy="65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7400" y="174600"/>
              <a:ext cx="8321760" cy="14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stão de Resíduo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1371600"/>
            <a:ext cx="1219320" cy="38088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OLE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666880" y="1295280"/>
            <a:ext cx="1981440" cy="457200"/>
            <a:chOff x="2666880" y="1295280"/>
            <a:chExt cx="1981440" cy="457200"/>
          </a:xfrm>
        </p:grpSpPr>
        <p:sp>
          <p:nvSpPr>
            <p:cNvPr id="159" name=""/>
            <p:cNvSpPr/>
            <p:nvPr/>
          </p:nvSpPr>
          <p:spPr>
            <a:xfrm>
              <a:off x="2666880" y="1295280"/>
              <a:ext cx="1295640" cy="457200"/>
            </a:xfrm>
            <a:prstGeom prst="flowChartAlternateProcess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SEGREG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38480" y="1447920"/>
              <a:ext cx="609840" cy="228600"/>
            </a:xfrm>
            <a:custGeom>
              <a:avLst/>
              <a:gdLst>
                <a:gd name="textAreaLeft" fmla="*/ 95040 w 609840"/>
                <a:gd name="textAreaRight" fmla="*/ 533880 w 60984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572000" y="2286000"/>
            <a:ext cx="1447920" cy="495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5114520" y="1895400"/>
            <a:ext cx="423720" cy="290520"/>
          </a:xfrm>
          <a:custGeom>
            <a:avLst/>
            <a:gdLst>
              <a:gd name="textAreaLeft" fmla="*/ 66240 w 423720"/>
              <a:gd name="textAreaRight" fmla="*/ 370800 w 42372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3352680"/>
            <a:ext cx="144756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ARACTERIZ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5097600" y="2902680"/>
            <a:ext cx="457200" cy="290520"/>
          </a:xfrm>
          <a:custGeom>
            <a:avLst/>
            <a:gdLst>
              <a:gd name="textAreaLeft" fmla="*/ 71280 w 457200"/>
              <a:gd name="textAreaRight" fmla="*/ 400320 w 4572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4419720"/>
            <a:ext cx="1447560" cy="495360"/>
          </a:xfrm>
          <a:prstGeom prst="flowChartAlternateProcess">
            <a:avLst/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DISPER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5182920" y="4037040"/>
            <a:ext cx="423720" cy="274680"/>
          </a:xfrm>
          <a:custGeom>
            <a:avLst/>
            <a:gdLst>
              <a:gd name="textAreaLeft" fmla="*/ 66240 w 423720"/>
              <a:gd name="textAreaRight" fmla="*/ 370800 w 4237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5486400"/>
            <a:ext cx="1447560" cy="495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ONFIN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5182920" y="5103720"/>
            <a:ext cx="423720" cy="274680"/>
          </a:xfrm>
          <a:custGeom>
            <a:avLst/>
            <a:gdLst>
              <a:gd name="textAreaLeft" fmla="*/ 66240 w 423720"/>
              <a:gd name="textAreaRight" fmla="*/ 370800 w 4237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3352680"/>
            <a:ext cx="144756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RAT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350532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0" y="5486400"/>
            <a:ext cx="152388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ARMAZENAM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EMPORÁ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0800000">
            <a:off x="6171840" y="563832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 rot="8690400">
            <a:off x="6019920" y="4190400"/>
            <a:ext cx="1187280" cy="172800"/>
          </a:xfrm>
          <a:custGeom>
            <a:avLst/>
            <a:gdLst>
              <a:gd name="textAreaLeft" fmla="*/ 185400 w 1187280"/>
              <a:gd name="textAreaRight" fmla="*/ 1038960 w 1187280"/>
              <a:gd name="textAreaTop" fmla="*/ 43200 h 172800"/>
              <a:gd name="textAreaBottom" fmla="*/ 129600 h 172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6850440" y="4502880"/>
            <a:ext cx="1371600" cy="2905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1773360"/>
            <a:ext cx="38862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Segreg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Arial"/>
              </a:rPr>
              <a:t>Significa a separação física de cada tipo de rejeito no momento da cole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de modo a facilitar e permitir o tratamento posterior. Ela é feita de acordo com a natureza física, química e radiológica dos materiais presentes no rejeito e reflete também a infra-estrutura de tratamento existente na instituição que vai tratá-lo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13B-C4FD-4739-BB98-AF85B8764AAF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88F1A-AA6E-44B5-991D-C0448708F4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617400" y="174600"/>
            <a:ext cx="8321760" cy="6510240"/>
            <a:chOff x="617400" y="174600"/>
            <a:chExt cx="8321760" cy="6510240"/>
          </a:xfrm>
        </p:grpSpPr>
        <p:sp>
          <p:nvSpPr>
            <p:cNvPr id="177" name=""/>
            <p:cNvSpPr/>
            <p:nvPr/>
          </p:nvSpPr>
          <p:spPr>
            <a:xfrm>
              <a:off x="617400" y="174600"/>
              <a:ext cx="8229600" cy="65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7400" y="174600"/>
              <a:ext cx="8321760" cy="14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stão de Resíduo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1371600"/>
            <a:ext cx="1219320" cy="38088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OLE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666880" y="1295280"/>
            <a:ext cx="1981440" cy="457200"/>
            <a:chOff x="2666880" y="1295280"/>
            <a:chExt cx="1981440" cy="457200"/>
          </a:xfrm>
        </p:grpSpPr>
        <p:sp>
          <p:nvSpPr>
            <p:cNvPr id="182" name=""/>
            <p:cNvSpPr/>
            <p:nvPr/>
          </p:nvSpPr>
          <p:spPr>
            <a:xfrm>
              <a:off x="2666880" y="1295280"/>
              <a:ext cx="1295640" cy="457200"/>
            </a:xfrm>
            <a:prstGeom prst="flowChartAlternateProcess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SEGREG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38480" y="1447920"/>
              <a:ext cx="609840" cy="228600"/>
            </a:xfrm>
            <a:custGeom>
              <a:avLst/>
              <a:gdLst>
                <a:gd name="textAreaLeft" fmla="*/ 95040 w 609840"/>
                <a:gd name="textAreaRight" fmla="*/ 533880 w 60984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572000" y="2286000"/>
            <a:ext cx="1447920" cy="495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5114520" y="1895400"/>
            <a:ext cx="423720" cy="290520"/>
          </a:xfrm>
          <a:custGeom>
            <a:avLst/>
            <a:gdLst>
              <a:gd name="textAreaLeft" fmla="*/ 66240 w 423720"/>
              <a:gd name="textAreaRight" fmla="*/ 370800 w 42372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3352680"/>
            <a:ext cx="144756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ARACTERIZ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5097600" y="2902680"/>
            <a:ext cx="457200" cy="290520"/>
          </a:xfrm>
          <a:custGeom>
            <a:avLst/>
            <a:gdLst>
              <a:gd name="textAreaLeft" fmla="*/ 71280 w 457200"/>
              <a:gd name="textAreaRight" fmla="*/ 400320 w 4572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4419720"/>
            <a:ext cx="1447560" cy="495360"/>
          </a:xfrm>
          <a:prstGeom prst="flowChartAlternateProcess">
            <a:avLst/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DISPER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5182920" y="4037040"/>
            <a:ext cx="423720" cy="274680"/>
          </a:xfrm>
          <a:custGeom>
            <a:avLst/>
            <a:gdLst>
              <a:gd name="textAreaLeft" fmla="*/ 66240 w 423720"/>
              <a:gd name="textAreaRight" fmla="*/ 370800 w 4237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5486400"/>
            <a:ext cx="1447560" cy="495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ONFIN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5182920" y="5103720"/>
            <a:ext cx="423720" cy="274680"/>
          </a:xfrm>
          <a:custGeom>
            <a:avLst/>
            <a:gdLst>
              <a:gd name="textAreaLeft" fmla="*/ 66240 w 423720"/>
              <a:gd name="textAreaRight" fmla="*/ 370800 w 4237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3352680"/>
            <a:ext cx="144756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RAT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350532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0" y="5486400"/>
            <a:ext cx="152388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ARMAZENAM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EMPORÁ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6171840" y="563832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 rot="8690400">
            <a:off x="6019920" y="4190400"/>
            <a:ext cx="1187280" cy="172800"/>
          </a:xfrm>
          <a:custGeom>
            <a:avLst/>
            <a:gdLst>
              <a:gd name="textAreaLeft" fmla="*/ 185400 w 1187280"/>
              <a:gd name="textAreaRight" fmla="*/ 1038960 w 1187280"/>
              <a:gd name="textAreaTop" fmla="*/ 43200 h 172800"/>
              <a:gd name="textAreaBottom" fmla="*/ 129600 h 172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6850440" y="4502880"/>
            <a:ext cx="1371600" cy="2905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2057400"/>
            <a:ext cx="38862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Segreg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 modo a orientar a segregação, se estabelece, em geral, uma classificação para os diferentes tipos de rejeitos. As classificações mais comuns são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F60-BCF0-4937-B7D5-96E505FC18E3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F2D86-9223-43FA-A5AE-DB794F2028B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617400" y="174600"/>
            <a:ext cx="8321760" cy="6510240"/>
            <a:chOff x="617400" y="174600"/>
            <a:chExt cx="8321760" cy="6510240"/>
          </a:xfrm>
        </p:grpSpPr>
        <p:sp>
          <p:nvSpPr>
            <p:cNvPr id="200" name=""/>
            <p:cNvSpPr/>
            <p:nvPr/>
          </p:nvSpPr>
          <p:spPr>
            <a:xfrm>
              <a:off x="617400" y="174600"/>
              <a:ext cx="8229600" cy="65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7400" y="174600"/>
              <a:ext cx="8321760" cy="14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stão de Resíduo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1371600"/>
            <a:ext cx="1219320" cy="38088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OLE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666880" y="1295280"/>
            <a:ext cx="1981440" cy="457200"/>
            <a:chOff x="2666880" y="1295280"/>
            <a:chExt cx="1981440" cy="457200"/>
          </a:xfrm>
        </p:grpSpPr>
        <p:sp>
          <p:nvSpPr>
            <p:cNvPr id="205" name=""/>
            <p:cNvSpPr/>
            <p:nvPr/>
          </p:nvSpPr>
          <p:spPr>
            <a:xfrm>
              <a:off x="2666880" y="1295280"/>
              <a:ext cx="1295640" cy="457200"/>
            </a:xfrm>
            <a:prstGeom prst="flowChartAlternateProcess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SEGREG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38480" y="1447920"/>
              <a:ext cx="609840" cy="228600"/>
            </a:xfrm>
            <a:custGeom>
              <a:avLst/>
              <a:gdLst>
                <a:gd name="textAreaLeft" fmla="*/ 95040 w 609840"/>
                <a:gd name="textAreaRight" fmla="*/ 533880 w 60984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572000" y="2286000"/>
            <a:ext cx="1447920" cy="495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5114520" y="1895400"/>
            <a:ext cx="423720" cy="290520"/>
          </a:xfrm>
          <a:custGeom>
            <a:avLst/>
            <a:gdLst>
              <a:gd name="textAreaLeft" fmla="*/ 66240 w 423720"/>
              <a:gd name="textAreaRight" fmla="*/ 370800 w 42372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3352680"/>
            <a:ext cx="144756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ARACTERIZ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097600" y="2902680"/>
            <a:ext cx="457200" cy="290520"/>
          </a:xfrm>
          <a:custGeom>
            <a:avLst/>
            <a:gdLst>
              <a:gd name="textAreaLeft" fmla="*/ 71280 w 457200"/>
              <a:gd name="textAreaRight" fmla="*/ 400320 w 4572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4419720"/>
            <a:ext cx="1447560" cy="495360"/>
          </a:xfrm>
          <a:prstGeom prst="flowChartAlternateProcess">
            <a:avLst/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DISPER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5182920" y="4037040"/>
            <a:ext cx="423720" cy="274680"/>
          </a:xfrm>
          <a:custGeom>
            <a:avLst/>
            <a:gdLst>
              <a:gd name="textAreaLeft" fmla="*/ 66240 w 423720"/>
              <a:gd name="textAreaRight" fmla="*/ 370800 w 4237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5486400"/>
            <a:ext cx="1447560" cy="495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ONFIN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5182920" y="5103720"/>
            <a:ext cx="423720" cy="274680"/>
          </a:xfrm>
          <a:custGeom>
            <a:avLst/>
            <a:gdLst>
              <a:gd name="textAreaLeft" fmla="*/ 66240 w 423720"/>
              <a:gd name="textAreaRight" fmla="*/ 370800 w 4237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3352680"/>
            <a:ext cx="144756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RAT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350532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0" y="5486400"/>
            <a:ext cx="152388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ARMAZENAM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EMPORÁ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0800000">
            <a:off x="6171840" y="563832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 rot="8690400">
            <a:off x="6019920" y="4190400"/>
            <a:ext cx="1187280" cy="172800"/>
          </a:xfrm>
          <a:custGeom>
            <a:avLst/>
            <a:gdLst>
              <a:gd name="textAreaLeft" fmla="*/ 185400 w 1187280"/>
              <a:gd name="textAreaRight" fmla="*/ 1038960 w 1187280"/>
              <a:gd name="textAreaTop" fmla="*/ 43200 h 172800"/>
              <a:gd name="textAreaBottom" fmla="*/ 129600 h 172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6850440" y="4502880"/>
            <a:ext cx="1371600" cy="2905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1628640"/>
            <a:ext cx="3886200" cy="54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Segreg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ff"/>
                </a:solidFill>
                <a:latin typeface="Microsoft Sans Serif"/>
                <a:ea typeface="Arial"/>
              </a:rPr>
              <a:t>1) Pelo estado físico dos rejeitos:</a:t>
            </a:r>
            <a:r>
              <a:rPr b="1" lang="pt-BR" sz="1400" spc="-1" strike="noStrike">
                <a:solidFill>
                  <a:srgbClr val="000000"/>
                </a:solidFill>
                <a:latin typeface="Microsoft Sans Serif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Microsoft Sans Serif"/>
                <a:ea typeface="Arial"/>
              </a:rPr>
              <a:t>a) sólidos: que podem subdividir-se, em função do tratamento que podem sofrer, em: compactáveis ou não compactáveis, incineráveis ou não incineráveis, biológicos, fontes seladas, sólidos úmidos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Microsoft Sans Serif"/>
                <a:ea typeface="Arial"/>
              </a:rPr>
              <a:t>b) líquidos: que podem subdividir-se, em função da natureza química, em: orgânicos ou inorgânicos, ácidos ou alcalinos, inflamáveis ou não inflamáveis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Microsoft Sans Serif"/>
                <a:ea typeface="Arial"/>
              </a:rPr>
              <a:t>c) gasosos: que podem subdividir-se, em função de sua constituição, em: gases ou aerossó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c) em função do tipo de radiação que emitem: emissores beta/gama, emissores alfa. Esta distinção é importante porque os emissores alfa são quase sempre mais radiotóxicos que os emissores beta/gama.</a:t>
            </a:r>
            <a:r>
              <a:rPr b="1" lang="pt-BR" sz="1400" spc="-1" strike="noStrike">
                <a:solidFill>
                  <a:srgbClr val="000000"/>
                </a:solidFill>
                <a:latin typeface="Microsoft Sans Serif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A2E-C374-4690-A93F-2175F036D3F4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48A7D-72F0-4D78-A5B3-F7FD17FD167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617400" y="174600"/>
            <a:ext cx="8321760" cy="6510240"/>
            <a:chOff x="617400" y="174600"/>
            <a:chExt cx="8321760" cy="6510240"/>
          </a:xfrm>
        </p:grpSpPr>
        <p:sp>
          <p:nvSpPr>
            <p:cNvPr id="223" name=""/>
            <p:cNvSpPr/>
            <p:nvPr/>
          </p:nvSpPr>
          <p:spPr>
            <a:xfrm>
              <a:off x="617400" y="174600"/>
              <a:ext cx="8229600" cy="65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7400" y="174600"/>
              <a:ext cx="8321760" cy="14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stão de Resíduo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1371600"/>
            <a:ext cx="1219320" cy="38088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OLE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666880" y="1295280"/>
            <a:ext cx="1981440" cy="457200"/>
            <a:chOff x="2666880" y="1295280"/>
            <a:chExt cx="1981440" cy="457200"/>
          </a:xfrm>
        </p:grpSpPr>
        <p:sp>
          <p:nvSpPr>
            <p:cNvPr id="228" name=""/>
            <p:cNvSpPr/>
            <p:nvPr/>
          </p:nvSpPr>
          <p:spPr>
            <a:xfrm>
              <a:off x="2666880" y="1295280"/>
              <a:ext cx="1295640" cy="457200"/>
            </a:xfrm>
            <a:prstGeom prst="flowChartAlternateProcess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SEGREG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38480" y="1447920"/>
              <a:ext cx="609840" cy="228600"/>
            </a:xfrm>
            <a:custGeom>
              <a:avLst/>
              <a:gdLst>
                <a:gd name="textAreaLeft" fmla="*/ 95040 w 609840"/>
                <a:gd name="textAreaRight" fmla="*/ 533880 w 60984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572000" y="2286000"/>
            <a:ext cx="1447920" cy="495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5114520" y="1895400"/>
            <a:ext cx="423720" cy="290520"/>
          </a:xfrm>
          <a:custGeom>
            <a:avLst/>
            <a:gdLst>
              <a:gd name="textAreaLeft" fmla="*/ 66240 w 423720"/>
              <a:gd name="textAreaRight" fmla="*/ 370800 w 42372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48320" y="3352680"/>
            <a:ext cx="144756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ARACTERIZ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5097600" y="2902680"/>
            <a:ext cx="457200" cy="290520"/>
          </a:xfrm>
          <a:custGeom>
            <a:avLst/>
            <a:gdLst>
              <a:gd name="textAreaLeft" fmla="*/ 71280 w 457200"/>
              <a:gd name="textAreaRight" fmla="*/ 400320 w 4572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4419720"/>
            <a:ext cx="1447560" cy="495360"/>
          </a:xfrm>
          <a:prstGeom prst="flowChartAlternateProcess">
            <a:avLst/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DISPER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5182920" y="4037040"/>
            <a:ext cx="423720" cy="274680"/>
          </a:xfrm>
          <a:custGeom>
            <a:avLst/>
            <a:gdLst>
              <a:gd name="textAreaLeft" fmla="*/ 66240 w 423720"/>
              <a:gd name="textAreaRight" fmla="*/ 370800 w 4237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5486400"/>
            <a:ext cx="1447560" cy="495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ONFIN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5400000">
            <a:off x="5182920" y="5103720"/>
            <a:ext cx="423720" cy="274680"/>
          </a:xfrm>
          <a:custGeom>
            <a:avLst/>
            <a:gdLst>
              <a:gd name="textAreaLeft" fmla="*/ 66240 w 423720"/>
              <a:gd name="textAreaRight" fmla="*/ 370800 w 4237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3352680"/>
            <a:ext cx="144756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RAT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350532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5486400"/>
            <a:ext cx="152388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ARMAZENAM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EMPORÁ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0800000">
            <a:off x="6171840" y="563832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 rot="8690400">
            <a:off x="6019920" y="4190400"/>
            <a:ext cx="1187280" cy="172800"/>
          </a:xfrm>
          <a:custGeom>
            <a:avLst/>
            <a:gdLst>
              <a:gd name="textAreaLeft" fmla="*/ 185400 w 1187280"/>
              <a:gd name="textAreaRight" fmla="*/ 1038960 w 1187280"/>
              <a:gd name="textAreaTop" fmla="*/ 43200 h 172800"/>
              <a:gd name="textAreaBottom" fmla="*/ 129600 h 172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6850440" y="4502880"/>
            <a:ext cx="1371600" cy="2905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360" y="1557360"/>
            <a:ext cx="3886200" cy="48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Segreg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Microsoft Sans Serif"/>
                <a:ea typeface="Arial"/>
              </a:rPr>
              <a:t>2) Pela natureza radiológica dos rejeit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)</a:t>
            </a:r>
            <a:r>
              <a:rPr b="1" lang="en-US" sz="1400" spc="-1" strike="noStrike">
                <a:solidFill>
                  <a:srgbClr val="000000"/>
                </a:solidFill>
                <a:latin typeface="Microsoft Sans Serif"/>
                <a:ea typeface="Arial"/>
              </a:rPr>
              <a:t> em função da sua atividade: baixa, média ou alta. Os rejeitos de baixa atividade são aqueles que não necessitam blindagem para serem manipulados; os de média atividade requerem o uso de blindagens para proteção dos operadores; e os de alta atividade requerem, além da blindagem, o constante resfriamento para remover o calor que geram continuamente. Os rejeitos institucionais e os rejeitos da desmontagem das instalações são quase todos de atividade baixa; os rejeitos do ciclo do combustível são de atividade baixa, média ou alta, dependendo do processo em que se origin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9ADD-E308-4783-9F92-9A72760144E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00997-1A75-4907-A244-86F9B6AE14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617400" y="174600"/>
            <a:ext cx="8321760" cy="6510240"/>
            <a:chOff x="617400" y="174600"/>
            <a:chExt cx="8321760" cy="6510240"/>
          </a:xfrm>
        </p:grpSpPr>
        <p:sp>
          <p:nvSpPr>
            <p:cNvPr id="246" name=""/>
            <p:cNvSpPr/>
            <p:nvPr/>
          </p:nvSpPr>
          <p:spPr>
            <a:xfrm>
              <a:off x="617400" y="174600"/>
              <a:ext cx="8229600" cy="65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7400" y="174600"/>
              <a:ext cx="8321760" cy="14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stão de Resíduo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1371600"/>
            <a:ext cx="1219320" cy="38088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OLE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666880" y="1295280"/>
            <a:ext cx="1981440" cy="457200"/>
            <a:chOff x="2666880" y="1295280"/>
            <a:chExt cx="1981440" cy="457200"/>
          </a:xfrm>
        </p:grpSpPr>
        <p:sp>
          <p:nvSpPr>
            <p:cNvPr id="251" name=""/>
            <p:cNvSpPr/>
            <p:nvPr/>
          </p:nvSpPr>
          <p:spPr>
            <a:xfrm>
              <a:off x="2666880" y="1295280"/>
              <a:ext cx="1295640" cy="457200"/>
            </a:xfrm>
            <a:prstGeom prst="flowChartAlternateProcess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SEGREG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38480" y="1447920"/>
              <a:ext cx="609840" cy="228600"/>
            </a:xfrm>
            <a:custGeom>
              <a:avLst/>
              <a:gdLst>
                <a:gd name="textAreaLeft" fmla="*/ 95040 w 609840"/>
                <a:gd name="textAreaRight" fmla="*/ 533880 w 60984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572000" y="2286000"/>
            <a:ext cx="1447920" cy="495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5400000">
            <a:off x="5114520" y="1895400"/>
            <a:ext cx="423720" cy="290520"/>
          </a:xfrm>
          <a:custGeom>
            <a:avLst/>
            <a:gdLst>
              <a:gd name="textAreaLeft" fmla="*/ 66240 w 423720"/>
              <a:gd name="textAreaRight" fmla="*/ 370800 w 42372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3352680"/>
            <a:ext cx="144756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ARACTERIZ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5400000">
            <a:off x="5097600" y="2902680"/>
            <a:ext cx="457200" cy="290520"/>
          </a:xfrm>
          <a:custGeom>
            <a:avLst/>
            <a:gdLst>
              <a:gd name="textAreaLeft" fmla="*/ 71280 w 457200"/>
              <a:gd name="textAreaRight" fmla="*/ 400320 w 4572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4419720"/>
            <a:ext cx="1447560" cy="495360"/>
          </a:xfrm>
          <a:prstGeom prst="flowChartAlternateProcess">
            <a:avLst/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DISPER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5400000">
            <a:off x="5182920" y="4037040"/>
            <a:ext cx="423720" cy="274680"/>
          </a:xfrm>
          <a:custGeom>
            <a:avLst/>
            <a:gdLst>
              <a:gd name="textAreaLeft" fmla="*/ 66240 w 423720"/>
              <a:gd name="textAreaRight" fmla="*/ 370800 w 4237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48320" y="5486400"/>
            <a:ext cx="1447560" cy="495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ONFIN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5400000">
            <a:off x="5182920" y="5103720"/>
            <a:ext cx="423720" cy="274680"/>
          </a:xfrm>
          <a:custGeom>
            <a:avLst/>
            <a:gdLst>
              <a:gd name="textAreaLeft" fmla="*/ 66240 w 423720"/>
              <a:gd name="textAreaRight" fmla="*/ 370800 w 4237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934320" y="3352680"/>
            <a:ext cx="144756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RAT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350532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0" y="5486400"/>
            <a:ext cx="152388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ARMAZENAM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EMPORÁ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800000">
            <a:off x="6171840" y="563832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 rot="8690400">
            <a:off x="6019920" y="4190400"/>
            <a:ext cx="1187280" cy="172800"/>
          </a:xfrm>
          <a:custGeom>
            <a:avLst/>
            <a:gdLst>
              <a:gd name="textAreaLeft" fmla="*/ 185400 w 1187280"/>
              <a:gd name="textAreaRight" fmla="*/ 1038960 w 1187280"/>
              <a:gd name="textAreaTop" fmla="*/ 43200 h 172800"/>
              <a:gd name="textAreaBottom" fmla="*/ 129600 h 172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6850440" y="4502880"/>
            <a:ext cx="1371600" cy="2905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752480"/>
            <a:ext cx="38862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Segreg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ff"/>
                </a:solidFill>
                <a:latin typeface="Microsoft Sans Serif"/>
                <a:ea typeface="Arial"/>
              </a:rPr>
              <a:t>2) Pela natureza radiológica dos rejeit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b)</a:t>
            </a:r>
            <a:r>
              <a:rPr b="1" lang="pt-BR" sz="1400" spc="-1" strike="noStrike">
                <a:solidFill>
                  <a:srgbClr val="000000"/>
                </a:solidFill>
                <a:latin typeface="Microsoft Sans Serif"/>
                <a:ea typeface="Arial"/>
              </a:rPr>
              <a:t> em função da meia-vida: curta, intermediária e longa. Os rejeitos de meia-vida curta são aqueles que decaem com meia-vida de até poucos anos; os de meia-vida intermediária são aqueles com com meia-vida de poucas dezenas de anos; e os de longa são os restantes. Um exemplo do primeiro é o rejeito gerado no uso do radioisótopo Iodo-131 em diagnóstico de doenças, o qual tem meia-vida de 8 dias; um exemplo do segundo é o rejeito da operação dos reatores, que contém Césio-137, com meia-vida de 30 anos; um exemplo do terceiro é o rejeito do reprocessamento do combustível nuclear que contém Plutônio-239, cuja meia-vida é 24.000 an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F4B7-E482-40CD-A416-8F6B45108AB6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B99A0-BE3A-4B3D-9F58-971E1F2A21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617400" y="174600"/>
            <a:ext cx="8321760" cy="6510240"/>
            <a:chOff x="617400" y="174600"/>
            <a:chExt cx="8321760" cy="6510240"/>
          </a:xfrm>
        </p:grpSpPr>
        <p:sp>
          <p:nvSpPr>
            <p:cNvPr id="269" name=""/>
            <p:cNvSpPr/>
            <p:nvPr/>
          </p:nvSpPr>
          <p:spPr>
            <a:xfrm>
              <a:off x="617400" y="174600"/>
              <a:ext cx="8229600" cy="65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7400" y="174600"/>
              <a:ext cx="8321760" cy="14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stão de Resíduo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1066680"/>
            <a:ext cx="38862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e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a colocação dos rejeitos em recipientes adequados, separados dos resíduos comuns e feita por quem gera os rejeitos, no local onde são gera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2133720"/>
            <a:ext cx="1447920" cy="495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43200" y="3200400"/>
            <a:ext cx="144792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ARACTERIZ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192840" y="2750040"/>
            <a:ext cx="457200" cy="290520"/>
          </a:xfrm>
          <a:custGeom>
            <a:avLst/>
            <a:gdLst>
              <a:gd name="textAreaLeft" fmla="*/ 71280 w 457200"/>
              <a:gd name="textAreaRight" fmla="*/ 400320 w 4572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4267080"/>
            <a:ext cx="1447920" cy="495360"/>
          </a:xfrm>
          <a:prstGeom prst="flowChartAlternateProcess">
            <a:avLst/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DISPER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3277440" y="3884400"/>
            <a:ext cx="424080" cy="274680"/>
          </a:xfrm>
          <a:custGeom>
            <a:avLst/>
            <a:gdLst>
              <a:gd name="textAreaLeft" fmla="*/ 66240 w 424080"/>
              <a:gd name="textAreaRight" fmla="*/ 371160 w 42408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43200" y="5334120"/>
            <a:ext cx="1447920" cy="495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ONFIN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3277800" y="4951440"/>
            <a:ext cx="423720" cy="274680"/>
          </a:xfrm>
          <a:custGeom>
            <a:avLst/>
            <a:gdLst>
              <a:gd name="textAreaLeft" fmla="*/ 66240 w 423720"/>
              <a:gd name="textAreaRight" fmla="*/ 370800 w 4237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29200" y="3200400"/>
            <a:ext cx="144792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RAT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335268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52880" y="5334120"/>
            <a:ext cx="1524240" cy="5331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ARMAZENAM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EMPORÁ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0800000">
            <a:off x="4267080" y="548604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 rot="8690400">
            <a:off x="4114800" y="4038120"/>
            <a:ext cx="1187280" cy="173160"/>
          </a:xfrm>
          <a:custGeom>
            <a:avLst/>
            <a:gdLst>
              <a:gd name="textAreaLeft" fmla="*/ 185400 w 1187280"/>
              <a:gd name="textAreaRight" fmla="*/ 1038960 w 1187280"/>
              <a:gd name="textAreaTop" fmla="*/ 43200 h 173160"/>
              <a:gd name="textAreaBottom" fmla="*/ 129960 h 17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4945320" y="4350240"/>
            <a:ext cx="1371600" cy="2905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62120" y="1143000"/>
            <a:ext cx="1981080" cy="457200"/>
            <a:chOff x="762120" y="1143000"/>
            <a:chExt cx="1981080" cy="457200"/>
          </a:xfrm>
        </p:grpSpPr>
        <p:sp>
          <p:nvSpPr>
            <p:cNvPr id="287" name=""/>
            <p:cNvSpPr/>
            <p:nvPr/>
          </p:nvSpPr>
          <p:spPr>
            <a:xfrm>
              <a:off x="762120" y="1143000"/>
              <a:ext cx="1295280" cy="45720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SEGREG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33720" y="1295640"/>
              <a:ext cx="609480" cy="228600"/>
            </a:xfrm>
            <a:custGeom>
              <a:avLst/>
              <a:gdLst>
                <a:gd name="textAreaLeft" fmla="*/ 95040 w 609480"/>
                <a:gd name="textAreaRight" fmla="*/ 533520 w 60948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819520" y="1219320"/>
            <a:ext cx="1218960" cy="880920"/>
            <a:chOff x="2819520" y="1219320"/>
            <a:chExt cx="1218960" cy="880920"/>
          </a:xfrm>
        </p:grpSpPr>
        <p:sp>
          <p:nvSpPr>
            <p:cNvPr id="290" name=""/>
            <p:cNvSpPr/>
            <p:nvPr/>
          </p:nvSpPr>
          <p:spPr>
            <a:xfrm>
              <a:off x="2819520" y="1219320"/>
              <a:ext cx="1218960" cy="380880"/>
            </a:xfrm>
            <a:prstGeom prst="flowChartAlternateProcess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COLE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5400000">
              <a:off x="3209760" y="1743120"/>
              <a:ext cx="423720" cy="290520"/>
            </a:xfrm>
            <a:custGeom>
              <a:avLst/>
              <a:gdLst>
                <a:gd name="textAreaLeft" fmla="*/ 66240 w 423720"/>
                <a:gd name="textAreaRight" fmla="*/ 370800 w 423720"/>
                <a:gd name="textAreaTop" fmla="*/ 72720 h 290520"/>
                <a:gd name="textAreaBottom" fmla="*/ 218160 h 2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F8A0-5638-45A4-AFA4-34C2084E8D13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FAD79-2666-4839-8B66-83EBF9F113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617400" y="174600"/>
            <a:ext cx="8321760" cy="6510240"/>
            <a:chOff x="617400" y="174600"/>
            <a:chExt cx="8321760" cy="6510240"/>
          </a:xfrm>
        </p:grpSpPr>
        <p:sp>
          <p:nvSpPr>
            <p:cNvPr id="293" name=""/>
            <p:cNvSpPr/>
            <p:nvPr/>
          </p:nvSpPr>
          <p:spPr>
            <a:xfrm>
              <a:off x="617400" y="174600"/>
              <a:ext cx="8229600" cy="65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7400" y="174600"/>
              <a:ext cx="8321760" cy="14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stão de Resíduo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743200" y="1143000"/>
            <a:ext cx="5715000" cy="4724280"/>
            <a:chOff x="2743200" y="1143000"/>
            <a:chExt cx="5715000" cy="4724280"/>
          </a:xfrm>
        </p:grpSpPr>
        <p:sp>
          <p:nvSpPr>
            <p:cNvPr id="297" name=""/>
            <p:cNvSpPr/>
            <p:nvPr/>
          </p:nvSpPr>
          <p:spPr>
            <a:xfrm>
              <a:off x="4648320" y="2133720"/>
              <a:ext cx="1447560" cy="495360"/>
            </a:xfrm>
            <a:prstGeom prst="flowChartAlternateProcess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TRANSPOR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24280" y="3200400"/>
              <a:ext cx="1447920" cy="53352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CARACTERIZ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5400000">
              <a:off x="5173920" y="2750040"/>
              <a:ext cx="457200" cy="29052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72720 h 290520"/>
                <a:gd name="textAreaBottom" fmla="*/ 218160 h 2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24280" y="4267080"/>
              <a:ext cx="1447920" cy="495360"/>
            </a:xfrm>
            <a:prstGeom prst="flowChartAlternateProcess">
              <a:avLst/>
            </a:prstGeom>
            <a:gradFill rotWithShape="0">
              <a:gsLst>
                <a:gs pos="0">
                  <a:srgbClr val="00ff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DISPERS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5400000">
              <a:off x="5258880" y="3884400"/>
              <a:ext cx="424080" cy="274680"/>
            </a:xfrm>
            <a:custGeom>
              <a:avLst/>
              <a:gdLst>
                <a:gd name="textAreaLeft" fmla="*/ 66240 w 424080"/>
                <a:gd name="textAreaRight" fmla="*/ 371160 w 424080"/>
                <a:gd name="textAreaTop" fmla="*/ 68760 h 274680"/>
                <a:gd name="textAreaBottom" fmla="*/ 20628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00ff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24280" y="5334120"/>
              <a:ext cx="1447920" cy="49536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CONFINAM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5259240" y="4951440"/>
              <a:ext cx="423720" cy="274680"/>
            </a:xfrm>
            <a:custGeom>
              <a:avLst/>
              <a:gdLst>
                <a:gd name="textAreaLeft" fmla="*/ 66240 w 423720"/>
                <a:gd name="textAreaRight" fmla="*/ 370800 w 423720"/>
                <a:gd name="textAreaTop" fmla="*/ 68760 h 274680"/>
                <a:gd name="textAreaBottom" fmla="*/ 20628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10280" y="3200400"/>
              <a:ext cx="1447920" cy="53352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TRATAM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24480" y="3352680"/>
              <a:ext cx="609840" cy="228600"/>
            </a:xfrm>
            <a:custGeom>
              <a:avLst/>
              <a:gdLst>
                <a:gd name="textAreaLeft" fmla="*/ 95040 w 609840"/>
                <a:gd name="textAreaRight" fmla="*/ 533880 w 60984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34320" y="5334120"/>
              <a:ext cx="1523880" cy="53316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ARMAZENAMENT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TEMPORÁ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0800000">
              <a:off x="6248160" y="5486040"/>
              <a:ext cx="609480" cy="228600"/>
            </a:xfrm>
            <a:custGeom>
              <a:avLst/>
              <a:gdLst>
                <a:gd name="textAreaLeft" fmla="*/ 95040 w 609480"/>
                <a:gd name="textAreaRight" fmla="*/ 533520 w 60948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 rot="8690400">
              <a:off x="6095520" y="4037040"/>
              <a:ext cx="1187640" cy="173160"/>
            </a:xfrm>
            <a:custGeom>
              <a:avLst/>
              <a:gdLst>
                <a:gd name="textAreaLeft" fmla="*/ 185400 w 1187640"/>
                <a:gd name="textAreaRight" fmla="*/ 1039320 w 1187640"/>
                <a:gd name="textAreaTop" fmla="*/ 43200 h 173160"/>
                <a:gd name="textAreaBottom" fmla="*/ 129960 h 17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00ff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6926400" y="4350240"/>
              <a:ext cx="1371600" cy="29052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72720 h 290520"/>
                <a:gd name="textAreaBottom" fmla="*/ 218160 h 2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743200" y="1143000"/>
              <a:ext cx="1981080" cy="457200"/>
              <a:chOff x="2743200" y="1143000"/>
              <a:chExt cx="1981080" cy="457200"/>
            </a:xfrm>
          </p:grpSpPr>
          <p:sp>
            <p:nvSpPr>
              <p:cNvPr id="311" name=""/>
              <p:cNvSpPr/>
              <p:nvPr/>
            </p:nvSpPr>
            <p:spPr>
              <a:xfrm>
                <a:off x="2743200" y="1143000"/>
                <a:ext cx="1295280" cy="45720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Microsoft Sans Serif"/>
                  </a:rPr>
                  <a:t>SEGREGAÇÃ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114800" y="1295640"/>
                <a:ext cx="609480" cy="228600"/>
              </a:xfrm>
              <a:custGeom>
                <a:avLst/>
                <a:gdLst>
                  <a:gd name="textAreaLeft" fmla="*/ 95040 w 609480"/>
                  <a:gd name="textAreaRight" fmla="*/ 533520 w 609480"/>
                  <a:gd name="textAreaTop" fmla="*/ 57240 h 228600"/>
                  <a:gd name="textAreaBottom" fmla="*/ 17172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108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4800600" y="1219320"/>
              <a:ext cx="1218960" cy="880920"/>
              <a:chOff x="4800600" y="1219320"/>
              <a:chExt cx="1218960" cy="880920"/>
            </a:xfrm>
          </p:grpSpPr>
          <p:sp>
            <p:nvSpPr>
              <p:cNvPr id="314" name=""/>
              <p:cNvSpPr/>
              <p:nvPr/>
            </p:nvSpPr>
            <p:spPr>
              <a:xfrm>
                <a:off x="4800600" y="1219320"/>
                <a:ext cx="1218960" cy="3808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Microsoft Sans Serif"/>
                  </a:rPr>
                  <a:t>COLE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400000">
                <a:off x="5190840" y="1743120"/>
                <a:ext cx="423720" cy="290520"/>
              </a:xfrm>
              <a:custGeom>
                <a:avLst/>
                <a:gdLst>
                  <a:gd name="textAreaLeft" fmla="*/ 66240 w 423720"/>
                  <a:gd name="textAreaRight" fmla="*/ 370800 w 423720"/>
                  <a:gd name="textAreaTop" fmla="*/ 72720 h 290520"/>
                  <a:gd name="textAreaBottom" fmla="*/ 218160 h 29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685800" y="1752480"/>
            <a:ext cx="38862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ansport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rá está balizado por um Plano de Transporte elaborado e compartilhado com os órgãos competentes (órgão ambientel, CNEN, Policia Rodoviaria Federal, etc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elaboração e execução do plano de transporte será por profissionais compet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7F0-1F06-4AB2-86ED-68B8D3908098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E5456-40C6-4D16-B2AF-AF3EBEA9AA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6094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tores Nuclea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Usinas Nucleares nod Mundo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4468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0" y="2017800"/>
            <a:ext cx="696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E7C-1EAF-4D75-8E15-8BD914A5FFB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2847D-DB6D-4FC0-BF59-F09AF25E59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617400" y="174600"/>
            <a:ext cx="8321760" cy="6510240"/>
            <a:chOff x="617400" y="174600"/>
            <a:chExt cx="8321760" cy="6510240"/>
          </a:xfrm>
        </p:grpSpPr>
        <p:sp>
          <p:nvSpPr>
            <p:cNvPr id="318" name=""/>
            <p:cNvSpPr/>
            <p:nvPr/>
          </p:nvSpPr>
          <p:spPr>
            <a:xfrm>
              <a:off x="617400" y="174600"/>
              <a:ext cx="8229600" cy="65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7400" y="174600"/>
              <a:ext cx="8321760" cy="14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stão de Resíduo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24280" y="4267080"/>
            <a:ext cx="1447920" cy="495360"/>
          </a:xfrm>
          <a:prstGeom prst="flowChartAlternateProcess">
            <a:avLst/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DISPER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24280" y="5334120"/>
            <a:ext cx="1447920" cy="495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ONFIN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5400000">
            <a:off x="5259240" y="4951440"/>
            <a:ext cx="423720" cy="274680"/>
          </a:xfrm>
          <a:custGeom>
            <a:avLst/>
            <a:gdLst>
              <a:gd name="textAreaLeft" fmla="*/ 66240 w 423720"/>
              <a:gd name="textAreaRight" fmla="*/ 370800 w 4237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10280" y="3200400"/>
            <a:ext cx="144792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RAT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324480" y="335268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34320" y="5334120"/>
            <a:ext cx="1523880" cy="5331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ARMAZENAM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EMPORÁ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6248160" y="548604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 rot="8690400">
            <a:off x="6095520" y="4037040"/>
            <a:ext cx="1187640" cy="173160"/>
          </a:xfrm>
          <a:custGeom>
            <a:avLst/>
            <a:gdLst>
              <a:gd name="textAreaLeft" fmla="*/ 185400 w 1187640"/>
              <a:gd name="textAreaRight" fmla="*/ 1039320 w 1187640"/>
              <a:gd name="textAreaTop" fmla="*/ 43200 h 173160"/>
              <a:gd name="textAreaBottom" fmla="*/ 129960 h 17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5400000">
            <a:off x="6926400" y="4350240"/>
            <a:ext cx="1371600" cy="2905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2743200" y="1143000"/>
            <a:ext cx="1981080" cy="457200"/>
            <a:chOff x="2743200" y="1143000"/>
            <a:chExt cx="1981080" cy="457200"/>
          </a:xfrm>
        </p:grpSpPr>
        <p:sp>
          <p:nvSpPr>
            <p:cNvPr id="331" name=""/>
            <p:cNvSpPr/>
            <p:nvPr/>
          </p:nvSpPr>
          <p:spPr>
            <a:xfrm>
              <a:off x="2743200" y="1143000"/>
              <a:ext cx="1295280" cy="45720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SEGREG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14800" y="1295640"/>
              <a:ext cx="609480" cy="228600"/>
            </a:xfrm>
            <a:custGeom>
              <a:avLst/>
              <a:gdLst>
                <a:gd name="textAreaLeft" fmla="*/ 95040 w 609480"/>
                <a:gd name="textAreaRight" fmla="*/ 533520 w 60948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800600" y="1219320"/>
            <a:ext cx="1218960" cy="880920"/>
            <a:chOff x="4800600" y="1219320"/>
            <a:chExt cx="1218960" cy="880920"/>
          </a:xfrm>
        </p:grpSpPr>
        <p:sp>
          <p:nvSpPr>
            <p:cNvPr id="334" name=""/>
            <p:cNvSpPr/>
            <p:nvPr/>
          </p:nvSpPr>
          <p:spPr>
            <a:xfrm>
              <a:off x="4800600" y="1219320"/>
              <a:ext cx="1218960" cy="38088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COLE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5190840" y="1743120"/>
              <a:ext cx="423720" cy="290520"/>
            </a:xfrm>
            <a:custGeom>
              <a:avLst/>
              <a:gdLst>
                <a:gd name="textAreaLeft" fmla="*/ 66240 w 423720"/>
                <a:gd name="textAreaRight" fmla="*/ 370800 w 423720"/>
                <a:gd name="textAreaTop" fmla="*/ 72720 h 290520"/>
                <a:gd name="textAreaBottom" fmla="*/ 218160 h 2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762120" y="2514600"/>
            <a:ext cx="38862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acter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 por finalidade estabelecer a qualidade e a quantidade dos rejeitos, fundamentais para o plano de transporte e para os tratamentos dos rejei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648320" y="2133720"/>
            <a:ext cx="1447560" cy="990360"/>
            <a:chOff x="4648320" y="2133720"/>
            <a:chExt cx="1447560" cy="990360"/>
          </a:xfrm>
        </p:grpSpPr>
        <p:sp>
          <p:nvSpPr>
            <p:cNvPr id="338" name=""/>
            <p:cNvSpPr/>
            <p:nvPr/>
          </p:nvSpPr>
          <p:spPr>
            <a:xfrm>
              <a:off x="4648320" y="2133720"/>
              <a:ext cx="1447560" cy="49536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TRANSPOR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5173920" y="2750040"/>
              <a:ext cx="457200" cy="29052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72720 h 290520"/>
                <a:gd name="textAreaBottom" fmla="*/ 218160 h 2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4648320" y="3200400"/>
            <a:ext cx="1447560" cy="990720"/>
            <a:chOff x="4648320" y="3200400"/>
            <a:chExt cx="1447560" cy="990720"/>
          </a:xfrm>
        </p:grpSpPr>
        <p:sp>
          <p:nvSpPr>
            <p:cNvPr id="341" name=""/>
            <p:cNvSpPr/>
            <p:nvPr/>
          </p:nvSpPr>
          <p:spPr>
            <a:xfrm>
              <a:off x="4648320" y="3200400"/>
              <a:ext cx="1447560" cy="495360"/>
            </a:xfrm>
            <a:prstGeom prst="flowChartAlternateProcess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CARACTERIZ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5174280" y="3817440"/>
              <a:ext cx="457200" cy="29016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72360 h 290160"/>
                <a:gd name="textAreaBottom" fmla="*/ 217800 h 29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629400" y="1828800"/>
            <a:ext cx="1447560" cy="1033560"/>
            <a:chOff x="6629400" y="1828800"/>
            <a:chExt cx="1447560" cy="1033560"/>
          </a:xfrm>
        </p:grpSpPr>
        <p:sp>
          <p:nvSpPr>
            <p:cNvPr id="344" name=""/>
            <p:cNvSpPr/>
            <p:nvPr/>
          </p:nvSpPr>
          <p:spPr>
            <a:xfrm>
              <a:off x="6629400" y="1828800"/>
              <a:ext cx="1447560" cy="53352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CARACTERIZ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164000" y="2513160"/>
              <a:ext cx="423720" cy="274680"/>
            </a:xfrm>
            <a:custGeom>
              <a:avLst/>
              <a:gdLst>
                <a:gd name="textAreaLeft" fmla="*/ 66240 w 423720"/>
                <a:gd name="textAreaRight" fmla="*/ 370800 w 423720"/>
                <a:gd name="textAreaTop" fmla="*/ 68760 h 274680"/>
                <a:gd name="textAreaBottom" fmla="*/ 20628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00ff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2E6B-332D-4284-A686-5BA814706F8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59CF2-1E3D-41E3-950E-3627D0D645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617400" y="174600"/>
            <a:ext cx="8321760" cy="6510240"/>
            <a:chOff x="617400" y="174600"/>
            <a:chExt cx="8321760" cy="6510240"/>
          </a:xfrm>
        </p:grpSpPr>
        <p:sp>
          <p:nvSpPr>
            <p:cNvPr id="347" name=""/>
            <p:cNvSpPr/>
            <p:nvPr/>
          </p:nvSpPr>
          <p:spPr>
            <a:xfrm>
              <a:off x="617400" y="174600"/>
              <a:ext cx="8229600" cy="65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7400" y="174600"/>
              <a:ext cx="8321760" cy="14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stão de Resíduo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24280" y="4267080"/>
            <a:ext cx="1447920" cy="495360"/>
          </a:xfrm>
          <a:prstGeom prst="flowChartAlternateProcess">
            <a:avLst/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DISPER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24280" y="5334120"/>
            <a:ext cx="1447920" cy="495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ONFIN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5259240" y="4951440"/>
            <a:ext cx="423720" cy="274680"/>
          </a:xfrm>
          <a:custGeom>
            <a:avLst/>
            <a:gdLst>
              <a:gd name="textAreaLeft" fmla="*/ 66240 w 423720"/>
              <a:gd name="textAreaRight" fmla="*/ 370800 w 4237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27640" y="335772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34320" y="5334120"/>
            <a:ext cx="1523880" cy="5331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ARMAZENAM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EMPORÁ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0800000">
            <a:off x="6248160" y="548604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 rot="8690400">
            <a:off x="6095520" y="4037040"/>
            <a:ext cx="1187640" cy="173160"/>
          </a:xfrm>
          <a:custGeom>
            <a:avLst/>
            <a:gdLst>
              <a:gd name="textAreaLeft" fmla="*/ 185400 w 1187640"/>
              <a:gd name="textAreaRight" fmla="*/ 1039320 w 1187640"/>
              <a:gd name="textAreaTop" fmla="*/ 43200 h 173160"/>
              <a:gd name="textAreaBottom" fmla="*/ 129960 h 17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5400000">
            <a:off x="6926400" y="4350240"/>
            <a:ext cx="1371600" cy="2905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743200" y="1143000"/>
            <a:ext cx="1981080" cy="457200"/>
            <a:chOff x="2743200" y="1143000"/>
            <a:chExt cx="1981080" cy="457200"/>
          </a:xfrm>
        </p:grpSpPr>
        <p:sp>
          <p:nvSpPr>
            <p:cNvPr id="359" name=""/>
            <p:cNvSpPr/>
            <p:nvPr/>
          </p:nvSpPr>
          <p:spPr>
            <a:xfrm>
              <a:off x="2743200" y="1143000"/>
              <a:ext cx="1295280" cy="45720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SEGREG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14800" y="1295640"/>
              <a:ext cx="609480" cy="228600"/>
            </a:xfrm>
            <a:custGeom>
              <a:avLst/>
              <a:gdLst>
                <a:gd name="textAreaLeft" fmla="*/ 95040 w 609480"/>
                <a:gd name="textAreaRight" fmla="*/ 533520 w 60948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800600" y="1219320"/>
            <a:ext cx="1218960" cy="880920"/>
            <a:chOff x="4800600" y="1219320"/>
            <a:chExt cx="1218960" cy="880920"/>
          </a:xfrm>
        </p:grpSpPr>
        <p:sp>
          <p:nvSpPr>
            <p:cNvPr id="362" name=""/>
            <p:cNvSpPr/>
            <p:nvPr/>
          </p:nvSpPr>
          <p:spPr>
            <a:xfrm>
              <a:off x="4800600" y="1219320"/>
              <a:ext cx="1218960" cy="38088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COLE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5190840" y="1743120"/>
              <a:ext cx="423720" cy="290520"/>
            </a:xfrm>
            <a:custGeom>
              <a:avLst/>
              <a:gdLst>
                <a:gd name="textAreaLeft" fmla="*/ 66240 w 423720"/>
                <a:gd name="textAreaRight" fmla="*/ 370800 w 423720"/>
                <a:gd name="textAreaTop" fmla="*/ 72720 h 290520"/>
                <a:gd name="textAreaBottom" fmla="*/ 218160 h 2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762120" y="2514600"/>
            <a:ext cx="38862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a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 o processamento físico e químico dos rejeitos para deixá-los numa forma adequada aos processos das etapas posteriores da gest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648320" y="2133720"/>
            <a:ext cx="1447560" cy="990360"/>
            <a:chOff x="4648320" y="2133720"/>
            <a:chExt cx="1447560" cy="990360"/>
          </a:xfrm>
        </p:grpSpPr>
        <p:sp>
          <p:nvSpPr>
            <p:cNvPr id="366" name=""/>
            <p:cNvSpPr/>
            <p:nvPr/>
          </p:nvSpPr>
          <p:spPr>
            <a:xfrm>
              <a:off x="4648320" y="2133720"/>
              <a:ext cx="1447560" cy="49536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TRANSPOR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5400000">
              <a:off x="5173920" y="2750040"/>
              <a:ext cx="457200" cy="29052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72720 h 290520"/>
                <a:gd name="textAreaBottom" fmla="*/ 218160 h 2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648320" y="3200400"/>
            <a:ext cx="1447560" cy="1033560"/>
            <a:chOff x="4648320" y="3200400"/>
            <a:chExt cx="1447560" cy="1033560"/>
          </a:xfrm>
        </p:grpSpPr>
        <p:sp>
          <p:nvSpPr>
            <p:cNvPr id="369" name=""/>
            <p:cNvSpPr/>
            <p:nvPr/>
          </p:nvSpPr>
          <p:spPr>
            <a:xfrm>
              <a:off x="4648320" y="3200400"/>
              <a:ext cx="1447560" cy="53352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CARACTERIZ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5400000">
              <a:off x="5182920" y="3884760"/>
              <a:ext cx="423720" cy="274680"/>
            </a:xfrm>
            <a:custGeom>
              <a:avLst/>
              <a:gdLst>
                <a:gd name="textAreaLeft" fmla="*/ 66240 w 423720"/>
                <a:gd name="textAreaRight" fmla="*/ 370800 w 423720"/>
                <a:gd name="textAreaTop" fmla="*/ 68760 h 274680"/>
                <a:gd name="textAreaBottom" fmla="*/ 20628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00ff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948360" y="3213000"/>
            <a:ext cx="1295640" cy="49536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RAT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4B1-2E66-47E2-8335-76E9FAE1B759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6FDF0-BE9B-4771-A286-B041FE61B7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617400" y="174600"/>
            <a:ext cx="8321760" cy="6510240"/>
            <a:chOff x="617400" y="174600"/>
            <a:chExt cx="8321760" cy="6510240"/>
          </a:xfrm>
        </p:grpSpPr>
        <p:sp>
          <p:nvSpPr>
            <p:cNvPr id="373" name=""/>
            <p:cNvSpPr/>
            <p:nvPr/>
          </p:nvSpPr>
          <p:spPr>
            <a:xfrm>
              <a:off x="617400" y="174600"/>
              <a:ext cx="8229600" cy="65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7400" y="174600"/>
              <a:ext cx="8321760" cy="14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stão de Resíduo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724280" y="4267080"/>
            <a:ext cx="1447920" cy="49536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DISPER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4280" y="5334120"/>
            <a:ext cx="1447920" cy="495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ONFIN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5240880" y="4961880"/>
            <a:ext cx="431640" cy="245880"/>
          </a:xfrm>
          <a:custGeom>
            <a:avLst/>
            <a:gdLst>
              <a:gd name="textAreaLeft" fmla="*/ 67320 w 431640"/>
              <a:gd name="textAreaRight" fmla="*/ 378000 w 431640"/>
              <a:gd name="textAreaTop" fmla="*/ 61560 h 245880"/>
              <a:gd name="textAreaBottom" fmla="*/ 184680 h 245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335772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5334120"/>
            <a:ext cx="1523880" cy="5331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ARMAZENAM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EMPORÁ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10800000">
            <a:off x="6248160" y="548604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 rot="8690400">
            <a:off x="6095520" y="4037040"/>
            <a:ext cx="1187640" cy="173160"/>
          </a:xfrm>
          <a:custGeom>
            <a:avLst/>
            <a:gdLst>
              <a:gd name="textAreaLeft" fmla="*/ 185400 w 1187640"/>
              <a:gd name="textAreaRight" fmla="*/ 1039320 w 1187640"/>
              <a:gd name="textAreaTop" fmla="*/ 43200 h 173160"/>
              <a:gd name="textAreaBottom" fmla="*/ 129960 h 17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743200" y="1143000"/>
            <a:ext cx="1981080" cy="457200"/>
            <a:chOff x="2743200" y="1143000"/>
            <a:chExt cx="1981080" cy="457200"/>
          </a:xfrm>
        </p:grpSpPr>
        <p:sp>
          <p:nvSpPr>
            <p:cNvPr id="384" name=""/>
            <p:cNvSpPr/>
            <p:nvPr/>
          </p:nvSpPr>
          <p:spPr>
            <a:xfrm>
              <a:off x="2743200" y="1143000"/>
              <a:ext cx="1295280" cy="45720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SEGREG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1295640"/>
              <a:ext cx="609480" cy="228600"/>
            </a:xfrm>
            <a:custGeom>
              <a:avLst/>
              <a:gdLst>
                <a:gd name="textAreaLeft" fmla="*/ 95040 w 609480"/>
                <a:gd name="textAreaRight" fmla="*/ 533520 w 60948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800600" y="1219320"/>
            <a:ext cx="1218960" cy="880920"/>
            <a:chOff x="4800600" y="1219320"/>
            <a:chExt cx="1218960" cy="880920"/>
          </a:xfrm>
        </p:grpSpPr>
        <p:sp>
          <p:nvSpPr>
            <p:cNvPr id="387" name=""/>
            <p:cNvSpPr/>
            <p:nvPr/>
          </p:nvSpPr>
          <p:spPr>
            <a:xfrm>
              <a:off x="4800600" y="1219320"/>
              <a:ext cx="1218960" cy="38088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COLE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5400000">
              <a:off x="5190840" y="1743120"/>
              <a:ext cx="423720" cy="290520"/>
            </a:xfrm>
            <a:custGeom>
              <a:avLst/>
              <a:gdLst>
                <a:gd name="textAreaLeft" fmla="*/ 66240 w 423720"/>
                <a:gd name="textAreaRight" fmla="*/ 370800 w 423720"/>
                <a:gd name="textAreaTop" fmla="*/ 72720 h 290520"/>
                <a:gd name="textAreaBottom" fmla="*/ 218160 h 2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684360" y="1700280"/>
            <a:ext cx="38862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per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spersão é o processo pelo qual os rejeitos radioativos, após devido tratamento físico-químico, são lançados diretamente nos vários compartimentos do ecossistema: na atmosfera em se tratando de rejeitos gasosos, em cursos d'água em se tratando de líquidos e em aterros sanitários convencionais no caso de rejeitos sóli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48320" y="2133720"/>
            <a:ext cx="1447560" cy="990360"/>
            <a:chOff x="4648320" y="2133720"/>
            <a:chExt cx="1447560" cy="990360"/>
          </a:xfrm>
        </p:grpSpPr>
        <p:sp>
          <p:nvSpPr>
            <p:cNvPr id="391" name=""/>
            <p:cNvSpPr/>
            <p:nvPr/>
          </p:nvSpPr>
          <p:spPr>
            <a:xfrm>
              <a:off x="4648320" y="2133720"/>
              <a:ext cx="1447560" cy="49536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TRANSPOR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5400000">
              <a:off x="5173920" y="2750040"/>
              <a:ext cx="457200" cy="29052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72720 h 290520"/>
                <a:gd name="textAreaBottom" fmla="*/ 218160 h 2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648320" y="3200400"/>
            <a:ext cx="1447560" cy="1033560"/>
            <a:chOff x="4648320" y="3200400"/>
            <a:chExt cx="1447560" cy="1033560"/>
          </a:xfrm>
        </p:grpSpPr>
        <p:sp>
          <p:nvSpPr>
            <p:cNvPr id="394" name=""/>
            <p:cNvSpPr/>
            <p:nvPr/>
          </p:nvSpPr>
          <p:spPr>
            <a:xfrm>
              <a:off x="4648320" y="3200400"/>
              <a:ext cx="1447560" cy="53352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CARACTERIZ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5400000">
              <a:off x="5182920" y="3884760"/>
              <a:ext cx="423720" cy="274680"/>
            </a:xfrm>
            <a:custGeom>
              <a:avLst/>
              <a:gdLst>
                <a:gd name="textAreaLeft" fmla="*/ 66240 w 423720"/>
                <a:gd name="textAreaRight" fmla="*/ 370800 w 423720"/>
                <a:gd name="textAreaTop" fmla="*/ 68760 h 274680"/>
                <a:gd name="textAreaBottom" fmla="*/ 20628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00ff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6877080" y="3213000"/>
            <a:ext cx="144792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RAT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5400000">
            <a:off x="6910560" y="4401000"/>
            <a:ext cx="1371600" cy="2905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E9D7-9D45-40BF-9B4A-94C384B9EBD2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47120-09A5-46B6-A4D5-BA15A3D345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617400" y="174600"/>
            <a:ext cx="8321760" cy="6510240"/>
            <a:chOff x="617400" y="174600"/>
            <a:chExt cx="8321760" cy="6510240"/>
          </a:xfrm>
        </p:grpSpPr>
        <p:sp>
          <p:nvSpPr>
            <p:cNvPr id="399" name=""/>
            <p:cNvSpPr/>
            <p:nvPr/>
          </p:nvSpPr>
          <p:spPr>
            <a:xfrm>
              <a:off x="617400" y="174600"/>
              <a:ext cx="8229600" cy="65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17400" y="174600"/>
              <a:ext cx="8321760" cy="14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stão de Resíduo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24280" y="4267080"/>
            <a:ext cx="1447920" cy="49536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DISPER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24280" y="5334120"/>
            <a:ext cx="1447920" cy="495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ONFIN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5400000">
            <a:off x="5240880" y="4961880"/>
            <a:ext cx="431640" cy="245880"/>
          </a:xfrm>
          <a:custGeom>
            <a:avLst/>
            <a:gdLst>
              <a:gd name="textAreaLeft" fmla="*/ 67320 w 431640"/>
              <a:gd name="textAreaRight" fmla="*/ 378000 w 431640"/>
              <a:gd name="textAreaTop" fmla="*/ 61560 h 245880"/>
              <a:gd name="textAreaBottom" fmla="*/ 184680 h 245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27640" y="335772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5334120"/>
            <a:ext cx="1523880" cy="5331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ARMAZENAM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EMPORÁ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10800000">
            <a:off x="6248160" y="548604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 rot="8690400">
            <a:off x="6095520" y="4037040"/>
            <a:ext cx="1187640" cy="173160"/>
          </a:xfrm>
          <a:custGeom>
            <a:avLst/>
            <a:gdLst>
              <a:gd name="textAreaLeft" fmla="*/ 185400 w 1187640"/>
              <a:gd name="textAreaRight" fmla="*/ 1039320 w 1187640"/>
              <a:gd name="textAreaTop" fmla="*/ 43200 h 173160"/>
              <a:gd name="textAreaBottom" fmla="*/ 129960 h 17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743200" y="1143000"/>
            <a:ext cx="1981080" cy="457200"/>
            <a:chOff x="2743200" y="1143000"/>
            <a:chExt cx="1981080" cy="457200"/>
          </a:xfrm>
        </p:grpSpPr>
        <p:sp>
          <p:nvSpPr>
            <p:cNvPr id="410" name=""/>
            <p:cNvSpPr/>
            <p:nvPr/>
          </p:nvSpPr>
          <p:spPr>
            <a:xfrm>
              <a:off x="2743200" y="1143000"/>
              <a:ext cx="1295280" cy="45720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SEGREG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14800" y="1295640"/>
              <a:ext cx="609480" cy="228600"/>
            </a:xfrm>
            <a:custGeom>
              <a:avLst/>
              <a:gdLst>
                <a:gd name="textAreaLeft" fmla="*/ 95040 w 609480"/>
                <a:gd name="textAreaRight" fmla="*/ 533520 w 60948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800600" y="1219320"/>
            <a:ext cx="1218960" cy="880920"/>
            <a:chOff x="4800600" y="1219320"/>
            <a:chExt cx="1218960" cy="880920"/>
          </a:xfrm>
        </p:grpSpPr>
        <p:sp>
          <p:nvSpPr>
            <p:cNvPr id="413" name=""/>
            <p:cNvSpPr/>
            <p:nvPr/>
          </p:nvSpPr>
          <p:spPr>
            <a:xfrm>
              <a:off x="4800600" y="1219320"/>
              <a:ext cx="1218960" cy="38088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COLE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5400000">
              <a:off x="5190840" y="1743120"/>
              <a:ext cx="423720" cy="290520"/>
            </a:xfrm>
            <a:custGeom>
              <a:avLst/>
              <a:gdLst>
                <a:gd name="textAreaLeft" fmla="*/ 66240 w 423720"/>
                <a:gd name="textAreaRight" fmla="*/ 370800 w 423720"/>
                <a:gd name="textAreaTop" fmla="*/ 72720 h 290520"/>
                <a:gd name="textAreaBottom" fmla="*/ 218160 h 2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684360" y="1700280"/>
            <a:ext cx="38862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per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dispersão é adotada somente quando estudos prévios asseguram que os riscos ecológicos e à saúde humana decorrentes de tal prática são inferiores àqueles cotidianamente aceitos pela sociedade e aprovados pelas autorida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nomina-s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fluente radioativ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 rejeito a que se pode dar este tipo de disposição fin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648320" y="2133720"/>
            <a:ext cx="1447560" cy="990360"/>
            <a:chOff x="4648320" y="2133720"/>
            <a:chExt cx="1447560" cy="990360"/>
          </a:xfrm>
        </p:grpSpPr>
        <p:sp>
          <p:nvSpPr>
            <p:cNvPr id="417" name=""/>
            <p:cNvSpPr/>
            <p:nvPr/>
          </p:nvSpPr>
          <p:spPr>
            <a:xfrm>
              <a:off x="4648320" y="2133720"/>
              <a:ext cx="1447560" cy="49536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TRANSPOR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5400000">
              <a:off x="5173920" y="2750040"/>
              <a:ext cx="457200" cy="29052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72720 h 290520"/>
                <a:gd name="textAreaBottom" fmla="*/ 218160 h 2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4648320" y="3200400"/>
            <a:ext cx="1447560" cy="1033560"/>
            <a:chOff x="4648320" y="3200400"/>
            <a:chExt cx="1447560" cy="1033560"/>
          </a:xfrm>
        </p:grpSpPr>
        <p:sp>
          <p:nvSpPr>
            <p:cNvPr id="420" name=""/>
            <p:cNvSpPr/>
            <p:nvPr/>
          </p:nvSpPr>
          <p:spPr>
            <a:xfrm>
              <a:off x="4648320" y="3200400"/>
              <a:ext cx="1447560" cy="53352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CARACTERIZ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5400000">
              <a:off x="5182920" y="3884760"/>
              <a:ext cx="423720" cy="274680"/>
            </a:xfrm>
            <a:custGeom>
              <a:avLst/>
              <a:gdLst>
                <a:gd name="textAreaLeft" fmla="*/ 66240 w 423720"/>
                <a:gd name="textAreaRight" fmla="*/ 370800 w 423720"/>
                <a:gd name="textAreaTop" fmla="*/ 68760 h 274680"/>
                <a:gd name="textAreaBottom" fmla="*/ 20628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00ff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877080" y="3213000"/>
            <a:ext cx="144792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RAT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5400000">
            <a:off x="6910560" y="4401000"/>
            <a:ext cx="1371600" cy="2905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F53-8C58-467E-A634-8D259506955A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89037-E1DB-4539-BA1A-4720CF08B7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617400" y="174600"/>
            <a:ext cx="8321760" cy="6510240"/>
            <a:chOff x="617400" y="174600"/>
            <a:chExt cx="8321760" cy="6510240"/>
          </a:xfrm>
        </p:grpSpPr>
        <p:sp>
          <p:nvSpPr>
            <p:cNvPr id="425" name=""/>
            <p:cNvSpPr/>
            <p:nvPr/>
          </p:nvSpPr>
          <p:spPr>
            <a:xfrm>
              <a:off x="617400" y="174600"/>
              <a:ext cx="8229600" cy="65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7400" y="174600"/>
              <a:ext cx="8321760" cy="14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stão de Resíduo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724280" y="5334120"/>
            <a:ext cx="1447920" cy="495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ONFIN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227640" y="335772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34320" y="5334120"/>
            <a:ext cx="1523880" cy="53316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ARMAZENAM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EMPORÁ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0800000">
            <a:off x="6248160" y="548604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 rot="8690400">
            <a:off x="6095520" y="4037040"/>
            <a:ext cx="1187640" cy="173160"/>
          </a:xfrm>
          <a:custGeom>
            <a:avLst/>
            <a:gdLst>
              <a:gd name="textAreaLeft" fmla="*/ 185400 w 1187640"/>
              <a:gd name="textAreaRight" fmla="*/ 1039320 w 1187640"/>
              <a:gd name="textAreaTop" fmla="*/ 43200 h 173160"/>
              <a:gd name="textAreaBottom" fmla="*/ 129960 h 17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743200" y="1143000"/>
            <a:ext cx="1981080" cy="457200"/>
            <a:chOff x="2743200" y="1143000"/>
            <a:chExt cx="1981080" cy="457200"/>
          </a:xfrm>
        </p:grpSpPr>
        <p:sp>
          <p:nvSpPr>
            <p:cNvPr id="434" name=""/>
            <p:cNvSpPr/>
            <p:nvPr/>
          </p:nvSpPr>
          <p:spPr>
            <a:xfrm>
              <a:off x="2743200" y="1143000"/>
              <a:ext cx="1295280" cy="45720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SEGREG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14800" y="1295640"/>
              <a:ext cx="609480" cy="228600"/>
            </a:xfrm>
            <a:custGeom>
              <a:avLst/>
              <a:gdLst>
                <a:gd name="textAreaLeft" fmla="*/ 95040 w 609480"/>
                <a:gd name="textAreaRight" fmla="*/ 533520 w 60948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800600" y="1219320"/>
            <a:ext cx="1218960" cy="880920"/>
            <a:chOff x="4800600" y="1219320"/>
            <a:chExt cx="1218960" cy="880920"/>
          </a:xfrm>
        </p:grpSpPr>
        <p:sp>
          <p:nvSpPr>
            <p:cNvPr id="437" name=""/>
            <p:cNvSpPr/>
            <p:nvPr/>
          </p:nvSpPr>
          <p:spPr>
            <a:xfrm>
              <a:off x="4800600" y="1219320"/>
              <a:ext cx="1218960" cy="38088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COLE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5400000">
              <a:off x="5190840" y="1743120"/>
              <a:ext cx="423720" cy="290520"/>
            </a:xfrm>
            <a:custGeom>
              <a:avLst/>
              <a:gdLst>
                <a:gd name="textAreaLeft" fmla="*/ 66240 w 423720"/>
                <a:gd name="textAreaRight" fmla="*/ 370800 w 423720"/>
                <a:gd name="textAreaTop" fmla="*/ 72720 h 290520"/>
                <a:gd name="textAreaBottom" fmla="*/ 218160 h 2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539640" y="1700280"/>
            <a:ext cx="403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mazenamento Tempor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É a guarda temporária dos rejeitos já tratados na própria instalação de trat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648320" y="2133720"/>
            <a:ext cx="1447560" cy="990360"/>
            <a:chOff x="4648320" y="2133720"/>
            <a:chExt cx="1447560" cy="990360"/>
          </a:xfrm>
        </p:grpSpPr>
        <p:sp>
          <p:nvSpPr>
            <p:cNvPr id="441" name=""/>
            <p:cNvSpPr/>
            <p:nvPr/>
          </p:nvSpPr>
          <p:spPr>
            <a:xfrm>
              <a:off x="4648320" y="2133720"/>
              <a:ext cx="1447560" cy="49536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TRANSPOR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5173920" y="2750040"/>
              <a:ext cx="457200" cy="29052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72720 h 290520"/>
                <a:gd name="textAreaBottom" fmla="*/ 218160 h 2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648320" y="3200400"/>
            <a:ext cx="1447560" cy="1033560"/>
            <a:chOff x="4648320" y="3200400"/>
            <a:chExt cx="1447560" cy="1033560"/>
          </a:xfrm>
        </p:grpSpPr>
        <p:sp>
          <p:nvSpPr>
            <p:cNvPr id="444" name=""/>
            <p:cNvSpPr/>
            <p:nvPr/>
          </p:nvSpPr>
          <p:spPr>
            <a:xfrm>
              <a:off x="4648320" y="3200400"/>
              <a:ext cx="1447560" cy="53352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CARACTERIZ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5400000">
              <a:off x="5182920" y="3884760"/>
              <a:ext cx="423720" cy="274680"/>
            </a:xfrm>
            <a:custGeom>
              <a:avLst/>
              <a:gdLst>
                <a:gd name="textAreaLeft" fmla="*/ 66240 w 423720"/>
                <a:gd name="textAreaRight" fmla="*/ 370800 w 423720"/>
                <a:gd name="textAreaTop" fmla="*/ 68760 h 274680"/>
                <a:gd name="textAreaBottom" fmla="*/ 20628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00ff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6877080" y="3213000"/>
            <a:ext cx="144792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RAT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5400000">
            <a:off x="6910560" y="4401000"/>
            <a:ext cx="1371600" cy="2905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643280" y="4292640"/>
            <a:ext cx="1447920" cy="495360"/>
          </a:xfrm>
          <a:prstGeom prst="flowChartAlternateProcess">
            <a:avLst/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DISPER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5400000">
            <a:off x="5217840" y="4943520"/>
            <a:ext cx="423720" cy="274680"/>
          </a:xfrm>
          <a:custGeom>
            <a:avLst/>
            <a:gdLst>
              <a:gd name="textAreaLeft" fmla="*/ 66240 w 423720"/>
              <a:gd name="textAreaRight" fmla="*/ 370800 w 4237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F0A-7A04-4E01-9E41-FC1FF1142514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E41EB-7663-49C4-A127-8CE4BC5C5E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617400" y="174600"/>
            <a:ext cx="8321760" cy="6510240"/>
            <a:chOff x="617400" y="174600"/>
            <a:chExt cx="8321760" cy="6510240"/>
          </a:xfrm>
        </p:grpSpPr>
        <p:sp>
          <p:nvSpPr>
            <p:cNvPr id="451" name=""/>
            <p:cNvSpPr/>
            <p:nvPr/>
          </p:nvSpPr>
          <p:spPr>
            <a:xfrm>
              <a:off x="617400" y="174600"/>
              <a:ext cx="8229600" cy="65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7400" y="174600"/>
              <a:ext cx="8321760" cy="14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stão de Resíduo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5334120"/>
            <a:ext cx="1447920" cy="495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ONFIN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27640" y="335772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5334120"/>
            <a:ext cx="1523880" cy="53316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ARMAZENAM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EMPORÁ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10800000">
            <a:off x="6248160" y="548604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 rot="8690400">
            <a:off x="6095520" y="4037040"/>
            <a:ext cx="1187640" cy="173160"/>
          </a:xfrm>
          <a:custGeom>
            <a:avLst/>
            <a:gdLst>
              <a:gd name="textAreaLeft" fmla="*/ 185400 w 1187640"/>
              <a:gd name="textAreaRight" fmla="*/ 1039320 w 1187640"/>
              <a:gd name="textAreaTop" fmla="*/ 43200 h 173160"/>
              <a:gd name="textAreaBottom" fmla="*/ 129960 h 17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743200" y="1143000"/>
            <a:ext cx="1981080" cy="457200"/>
            <a:chOff x="2743200" y="1143000"/>
            <a:chExt cx="1981080" cy="457200"/>
          </a:xfrm>
        </p:grpSpPr>
        <p:sp>
          <p:nvSpPr>
            <p:cNvPr id="460" name=""/>
            <p:cNvSpPr/>
            <p:nvPr/>
          </p:nvSpPr>
          <p:spPr>
            <a:xfrm>
              <a:off x="2743200" y="1143000"/>
              <a:ext cx="1295280" cy="45720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SEGREG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14800" y="1295640"/>
              <a:ext cx="609480" cy="228600"/>
            </a:xfrm>
            <a:custGeom>
              <a:avLst/>
              <a:gdLst>
                <a:gd name="textAreaLeft" fmla="*/ 95040 w 609480"/>
                <a:gd name="textAreaRight" fmla="*/ 533520 w 60948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800600" y="1219320"/>
            <a:ext cx="1218960" cy="880920"/>
            <a:chOff x="4800600" y="1219320"/>
            <a:chExt cx="1218960" cy="880920"/>
          </a:xfrm>
        </p:grpSpPr>
        <p:sp>
          <p:nvSpPr>
            <p:cNvPr id="463" name=""/>
            <p:cNvSpPr/>
            <p:nvPr/>
          </p:nvSpPr>
          <p:spPr>
            <a:xfrm>
              <a:off x="4800600" y="1219320"/>
              <a:ext cx="1218960" cy="38088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COLE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5190840" y="1743120"/>
              <a:ext cx="423720" cy="290520"/>
            </a:xfrm>
            <a:custGeom>
              <a:avLst/>
              <a:gdLst>
                <a:gd name="textAreaLeft" fmla="*/ 66240 w 423720"/>
                <a:gd name="textAreaRight" fmla="*/ 370800 w 423720"/>
                <a:gd name="textAreaTop" fmla="*/ 72720 h 290520"/>
                <a:gd name="textAreaBottom" fmla="*/ 218160 h 2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539640" y="1700280"/>
            <a:ext cx="403092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fi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 confinamento implica no isolamento dos rejeitos dentro dos repositórios, por longos períodos de tempo - da ordem de centenas a milhares de anos, dependendo da meia-vida. Os repositórios são construções, em geral subterrâneas, projetadas e realizadas de modo a minimizar o contato antecipado do rejeito com a biosf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648320" y="2133720"/>
            <a:ext cx="1447560" cy="990360"/>
            <a:chOff x="4648320" y="2133720"/>
            <a:chExt cx="1447560" cy="990360"/>
          </a:xfrm>
        </p:grpSpPr>
        <p:sp>
          <p:nvSpPr>
            <p:cNvPr id="467" name=""/>
            <p:cNvSpPr/>
            <p:nvPr/>
          </p:nvSpPr>
          <p:spPr>
            <a:xfrm>
              <a:off x="4648320" y="2133720"/>
              <a:ext cx="1447560" cy="49536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TRANSPOR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5400000">
              <a:off x="5173920" y="2750040"/>
              <a:ext cx="457200" cy="29052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72720 h 290520"/>
                <a:gd name="textAreaBottom" fmla="*/ 218160 h 2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648320" y="3200400"/>
            <a:ext cx="1447560" cy="1033560"/>
            <a:chOff x="4648320" y="3200400"/>
            <a:chExt cx="1447560" cy="1033560"/>
          </a:xfrm>
        </p:grpSpPr>
        <p:sp>
          <p:nvSpPr>
            <p:cNvPr id="470" name=""/>
            <p:cNvSpPr/>
            <p:nvPr/>
          </p:nvSpPr>
          <p:spPr>
            <a:xfrm>
              <a:off x="4648320" y="3200400"/>
              <a:ext cx="1447560" cy="53352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CARACTERIZ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5400000">
              <a:off x="5182920" y="3884760"/>
              <a:ext cx="423720" cy="274680"/>
            </a:xfrm>
            <a:custGeom>
              <a:avLst/>
              <a:gdLst>
                <a:gd name="textAreaLeft" fmla="*/ 66240 w 423720"/>
                <a:gd name="textAreaRight" fmla="*/ 370800 w 423720"/>
                <a:gd name="textAreaTop" fmla="*/ 68760 h 274680"/>
                <a:gd name="textAreaBottom" fmla="*/ 20628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00ff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6877080" y="3213000"/>
            <a:ext cx="144792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RAT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rot="5400000">
            <a:off x="6910560" y="4401000"/>
            <a:ext cx="1371600" cy="2905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643280" y="4292640"/>
            <a:ext cx="1447920" cy="495360"/>
          </a:xfrm>
          <a:prstGeom prst="flowChartAlternateProcess">
            <a:avLst/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DISPER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5400000">
            <a:off x="5217840" y="4943520"/>
            <a:ext cx="423720" cy="274680"/>
          </a:xfrm>
          <a:custGeom>
            <a:avLst/>
            <a:gdLst>
              <a:gd name="textAreaLeft" fmla="*/ 66240 w 423720"/>
              <a:gd name="textAreaRight" fmla="*/ 370800 w 4237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3F77-CD2C-4A2F-B14B-5809B56F5730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AF6D9-B36A-4DD2-8C64-5797C8B369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617400" y="174600"/>
            <a:ext cx="8321760" cy="6510240"/>
            <a:chOff x="617400" y="174600"/>
            <a:chExt cx="8321760" cy="6510240"/>
          </a:xfrm>
        </p:grpSpPr>
        <p:sp>
          <p:nvSpPr>
            <p:cNvPr id="477" name=""/>
            <p:cNvSpPr/>
            <p:nvPr/>
          </p:nvSpPr>
          <p:spPr>
            <a:xfrm>
              <a:off x="617400" y="174600"/>
              <a:ext cx="8229600" cy="65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7400" y="174600"/>
              <a:ext cx="8321760" cy="14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stão de Resíduo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724280" y="5334120"/>
            <a:ext cx="1447920" cy="495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CONFIN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27640" y="335772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934320" y="5334120"/>
            <a:ext cx="1523880" cy="53316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ARMAZENAM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EMPORÁ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10800000">
            <a:off x="6248160" y="548604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 rot="8690400">
            <a:off x="6095520" y="4037040"/>
            <a:ext cx="1187640" cy="173160"/>
          </a:xfrm>
          <a:custGeom>
            <a:avLst/>
            <a:gdLst>
              <a:gd name="textAreaLeft" fmla="*/ 185400 w 1187640"/>
              <a:gd name="textAreaRight" fmla="*/ 1039320 w 1187640"/>
              <a:gd name="textAreaTop" fmla="*/ 43200 h 173160"/>
              <a:gd name="textAreaBottom" fmla="*/ 129960 h 17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743200" y="1143000"/>
            <a:ext cx="1981080" cy="457200"/>
            <a:chOff x="2743200" y="1143000"/>
            <a:chExt cx="1981080" cy="457200"/>
          </a:xfrm>
        </p:grpSpPr>
        <p:sp>
          <p:nvSpPr>
            <p:cNvPr id="486" name=""/>
            <p:cNvSpPr/>
            <p:nvPr/>
          </p:nvSpPr>
          <p:spPr>
            <a:xfrm>
              <a:off x="2743200" y="1143000"/>
              <a:ext cx="1295280" cy="45720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SEGREG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14800" y="1295640"/>
              <a:ext cx="609480" cy="228600"/>
            </a:xfrm>
            <a:custGeom>
              <a:avLst/>
              <a:gdLst>
                <a:gd name="textAreaLeft" fmla="*/ 95040 w 609480"/>
                <a:gd name="textAreaRight" fmla="*/ 533520 w 60948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4800600" y="1219320"/>
            <a:ext cx="1218960" cy="880920"/>
            <a:chOff x="4800600" y="1219320"/>
            <a:chExt cx="1218960" cy="880920"/>
          </a:xfrm>
        </p:grpSpPr>
        <p:sp>
          <p:nvSpPr>
            <p:cNvPr id="489" name=""/>
            <p:cNvSpPr/>
            <p:nvPr/>
          </p:nvSpPr>
          <p:spPr>
            <a:xfrm>
              <a:off x="4800600" y="1219320"/>
              <a:ext cx="1218960" cy="38088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COLE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5400000">
              <a:off x="5190840" y="1743120"/>
              <a:ext cx="423720" cy="290520"/>
            </a:xfrm>
            <a:custGeom>
              <a:avLst/>
              <a:gdLst>
                <a:gd name="textAreaLeft" fmla="*/ 66240 w 423720"/>
                <a:gd name="textAreaRight" fmla="*/ 370800 w 423720"/>
                <a:gd name="textAreaTop" fmla="*/ 72720 h 290520"/>
                <a:gd name="textAreaBottom" fmla="*/ 218160 h 2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539640" y="1700280"/>
            <a:ext cx="403092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posiçã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É a colocação dos rejeitos no meio ambiente de forma controlada, não recuperável e definitiva. A disposição final dos rejeitos radioativos de forma segura, à luz do atual desenvolvimento científico e tecnológico, é efetuada de duas formas: pela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ISPERSÃ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meio ambiente ou pel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NFINAMEN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s chamados repositóri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648320" y="2133720"/>
            <a:ext cx="1447560" cy="990360"/>
            <a:chOff x="4648320" y="2133720"/>
            <a:chExt cx="1447560" cy="990360"/>
          </a:xfrm>
        </p:grpSpPr>
        <p:sp>
          <p:nvSpPr>
            <p:cNvPr id="493" name=""/>
            <p:cNvSpPr/>
            <p:nvPr/>
          </p:nvSpPr>
          <p:spPr>
            <a:xfrm>
              <a:off x="4648320" y="2133720"/>
              <a:ext cx="1447560" cy="49536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TRANSPOR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5400000">
              <a:off x="5173920" y="2750040"/>
              <a:ext cx="457200" cy="29052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72720 h 290520"/>
                <a:gd name="textAreaBottom" fmla="*/ 218160 h 2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4648320" y="3200400"/>
            <a:ext cx="1447560" cy="1033560"/>
            <a:chOff x="4648320" y="3200400"/>
            <a:chExt cx="1447560" cy="1033560"/>
          </a:xfrm>
        </p:grpSpPr>
        <p:sp>
          <p:nvSpPr>
            <p:cNvPr id="496" name=""/>
            <p:cNvSpPr/>
            <p:nvPr/>
          </p:nvSpPr>
          <p:spPr>
            <a:xfrm>
              <a:off x="4648320" y="3200400"/>
              <a:ext cx="1447560" cy="53352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icrosoft Sans Serif"/>
                </a:rPr>
                <a:t>CARACTERIZ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5400000">
              <a:off x="5182920" y="3884760"/>
              <a:ext cx="423720" cy="274680"/>
            </a:xfrm>
            <a:custGeom>
              <a:avLst/>
              <a:gdLst>
                <a:gd name="textAreaLeft" fmla="*/ 66240 w 423720"/>
                <a:gd name="textAreaRight" fmla="*/ 370800 w 423720"/>
                <a:gd name="textAreaTop" fmla="*/ 68760 h 274680"/>
                <a:gd name="textAreaBottom" fmla="*/ 20628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00ff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877080" y="3213000"/>
            <a:ext cx="1447920" cy="5335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TRAT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5400000">
            <a:off x="6910560" y="4401000"/>
            <a:ext cx="1371600" cy="2905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3280" y="4292640"/>
            <a:ext cx="1447920" cy="495360"/>
          </a:xfrm>
          <a:prstGeom prst="flowChartAlternateProcess">
            <a:avLst/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DISPER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rot="5400000">
            <a:off x="5217840" y="4943520"/>
            <a:ext cx="423720" cy="274680"/>
          </a:xfrm>
          <a:custGeom>
            <a:avLst/>
            <a:gdLst>
              <a:gd name="textAreaLeft" fmla="*/ 66240 w 423720"/>
              <a:gd name="textAreaRight" fmla="*/ 370800 w 4237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9C3-7AC1-41AA-8712-E01FF66AAE15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ACA57-8742-48B9-BA4A-16079D5C3D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feitos da Radiação no ORGAN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85440" y="1066680"/>
            <a:ext cx="75438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624"/>
              </a:spcBef>
              <a:spcAft>
                <a:spcPts val="624"/>
              </a:spcAft>
              <a:buClr>
                <a:srgbClr val="ff0000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Microsoft Sans Serif"/>
                <a:ea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Microsoft Sans Serif"/>
                <a:ea typeface="Arial"/>
              </a:rPr>
              <a:t>As células quando expostas à radiação sofrem ação de fenômenos físicos, químicos e biológicos. A radiação causa ionização dos átomos, que afeta moléculas, que poderão afetar células, que podem afetar tecidos, que poderão afetar órgãos, que podem afetar a todo o cor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24"/>
              </a:spcBef>
              <a:spcAft>
                <a:spcPts val="624"/>
              </a:spcAft>
              <a:buClr>
                <a:srgbClr val="ff0000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Microsoft Sans Serif"/>
                <a:ea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Assim, os danos biológicos começam em conseqüência das interações ionizantes com os átomos formadores das célu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24"/>
              </a:spcBef>
              <a:spcAft>
                <a:spcPts val="624"/>
              </a:spcAft>
              <a:buClr>
                <a:srgbClr val="ff0000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m organismo complexo exposto às radiações sofre determinados efeitos somáticos, que lhe são restritos e outros, genéticos, transmissíveis às gerações posteriores. Os fenômenos físicos que intervêm são ionização e excitação dos átomos. Estes são responsáveis pelo compartilhamento da energia da radiação entre as célu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C63-5916-40E1-A253-16866213F7B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10AD5-C010-4435-A369-12ADE70B0C1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feitos da Radiação no ORGAN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440" y="1066680"/>
            <a:ext cx="75438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624"/>
              </a:spcBef>
              <a:spcAft>
                <a:spcPts val="624"/>
              </a:spcAft>
              <a:buClr>
                <a:srgbClr val="0000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feitos Bi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24"/>
              </a:spcBef>
              <a:spcAft>
                <a:spcPts val="624"/>
              </a:spcAft>
              <a:buClr>
                <a:srgbClr val="ff0000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 radiação nuclear não é algo que passou a existir nos últimos 150 anos. Ela faz parte de nossa vida. A luz solar é uma fonte natural radioativa. Está na areia da praia, na louça doméstica, nos alimentos, na televisão quando está ligada. </a:t>
            </a:r>
            <a:r>
              <a:rPr b="1" lang="pt-BR" sz="2000" spc="-1" strike="noStrike">
                <a:solidFill>
                  <a:srgbClr val="ff0000"/>
                </a:solidFill>
                <a:latin typeface="Microsoft Sans Serif"/>
                <a:ea typeface="Arial"/>
              </a:rPr>
              <a:t>Por ano, um ser humano absorve entre 110 milirem a 150 milirem de radiação de fontes diver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24"/>
              </a:spcBef>
              <a:spcAft>
                <a:spcPts val="624"/>
              </a:spcAft>
              <a:buClr>
                <a:srgbClr val="ff0000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Qualquer ser humano submetido a um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  <a:ea typeface="Arial"/>
              </a:rPr>
              <a:t>exame de concentraçã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de possíveis elementos radioativos em seu corpo, obterá um resultado de concentração de potássio radioativo, que foi acumulado pelo consumo de batata. (O cigarro apresenta chumbo e polônio radioativos.)</a:t>
            </a:r>
            <a:r>
              <a:rPr b="1" lang="pt-BR" sz="2000" spc="-1" strike="noStrike">
                <a:solidFill>
                  <a:srgbClr val="000000"/>
                </a:solidFill>
                <a:latin typeface="Microsoft Sans Serif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24B-2E59-42C0-8259-D6FE13CECF0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16D0D-B21C-43D7-9644-0002C6DA48B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feitos da Radiação no ORGAN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85440" y="1066680"/>
            <a:ext cx="75438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624"/>
              </a:spcBef>
              <a:spcAft>
                <a:spcPts val="624"/>
              </a:spcAft>
              <a:buClr>
                <a:srgbClr val="ff0000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Microsoft Sans Serif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Microsoft Sans Serif"/>
                <a:ea typeface="Arial"/>
              </a:rPr>
              <a:t>Os fenômenos químicos sucedem aos físicos e provocam rupturas de ligações entre os átomos formando radicais livres num intervalo de tempo peque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24"/>
              </a:spcBef>
              <a:spcAft>
                <a:spcPts val="624"/>
              </a:spcAft>
              <a:buClr>
                <a:srgbClr val="ff0000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Os fenômenos biológicos da radiação são uma conseqüência dos fenômenos físicos e químicos. Alteram as funções específicas das células e são responsáveis pela diminuição da atividade da substância viva, por exemplo: perda das propriedades características dos músculos.</a:t>
            </a:r>
            <a:r>
              <a:rPr b="1" lang="en-US" sz="2000" spc="-1" strike="noStrike">
                <a:solidFill>
                  <a:srgbClr val="000000"/>
                </a:solidFill>
                <a:latin typeface="Microsoft Sans Serif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6D54-48B7-4EF8-85EC-E42998E41C0F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33E87-131C-44AE-9B1A-B55FD97BF3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0" y="2017800"/>
            <a:ext cx="696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609480"/>
            <a:ext cx="678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  <a:ea typeface="Arial"/>
              </a:rPr>
              <a:t>Participação da Energia Nuclear na Produção de Energia El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42920" y="1479600"/>
            <a:ext cx="6985080" cy="474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1F9C-029C-43B4-8291-A3CF2174E15F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4B87A-F743-4DA7-AD7D-E24FB58812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761760" y="1066680"/>
            <a:ext cx="75438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624"/>
              </a:spcBef>
              <a:spcAft>
                <a:spcPts val="624"/>
              </a:spcAft>
              <a:buClr>
                <a:srgbClr val="ff0000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66"/>
                </a:solidFill>
                <a:latin typeface="Microsoft Sans Serif"/>
              </a:rPr>
              <a:t> </a:t>
            </a:r>
            <a:r>
              <a:rPr b="1" lang="pt-BR" sz="2000" spc="-1" strike="noStrike">
                <a:solidFill>
                  <a:srgbClr val="666666"/>
                </a:solidFill>
                <a:latin typeface="Microsoft Sans Serif"/>
              </a:rPr>
              <a:t>O maior risco da </a:t>
            </a:r>
            <a:r>
              <a:rPr b="1" lang="pt-BR" sz="2000" spc="-1" strike="noStrike" u="sng">
                <a:solidFill>
                  <a:srgbClr val="666666"/>
                </a:solidFill>
                <a:uFillTx/>
                <a:latin typeface="Microsoft Sans Serif"/>
              </a:rPr>
              <a:t>radiação ionizante</a:t>
            </a:r>
            <a:r>
              <a:rPr b="1" lang="pt-BR" sz="2000" spc="-1" strike="noStrike">
                <a:solidFill>
                  <a:srgbClr val="666666"/>
                </a:solidFill>
                <a:latin typeface="Microsoft Sans Serif"/>
              </a:rPr>
              <a:t> é o câncer. Ela também pode provocar defeitos genéticos nos filhos de homens ou mulheres expostos. Os danos ao nosso patrimônio genético (DNA) podem passar às futuras gerações. É o que chamamos de </a:t>
            </a:r>
            <a:r>
              <a:rPr b="1" lang="pt-BR" sz="2000" spc="-1" strike="noStrike">
                <a:solidFill>
                  <a:srgbClr val="0000ff"/>
                </a:solidFill>
                <a:latin typeface="Microsoft Sans Serif"/>
              </a:rPr>
              <a:t>mutação.</a:t>
            </a:r>
            <a:r>
              <a:rPr b="1" lang="pt-BR" sz="2000" spc="-1" strike="noStrike">
                <a:solidFill>
                  <a:srgbClr val="666666"/>
                </a:solidFill>
                <a:latin typeface="Microsoft Sans Serif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Microsoft Sans Serif"/>
              </a:rPr>
              <a:t>Crianças de mães expostas à radiação durante a gravidez podem apresentar retardamento mental</a:t>
            </a:r>
            <a:r>
              <a:rPr b="1" lang="pt-BR" sz="2000" spc="-1" strike="noStrike">
                <a:solidFill>
                  <a:srgbClr val="666666"/>
                </a:solidFill>
                <a:latin typeface="Microsoft Sans Serif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24"/>
              </a:spcBef>
              <a:spcAft>
                <a:spcPts val="624"/>
              </a:spcAft>
              <a:buClr>
                <a:srgbClr val="ff0000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66"/>
                </a:solidFill>
                <a:latin typeface="Microsoft Sans Serif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Microsoft Sans Serif"/>
              </a:rPr>
              <a:t>A exposição a grande quantidade de radiação é rara e pode causar doenças em poucas horas e até a morte. A maioria do conhecimento sobre os riscos da radiação ionizante se baseia nos estudos feitos com os 100 mil sobreviventes da barbárie praticada pelos norte-americanos na 2ª guerra mundial, com a explosão das bombas atômicas em Hiroshima e Nagasaki, no Japão</a:t>
            </a:r>
            <a:r>
              <a:rPr b="1" lang="pt-BR" sz="2000" spc="-1" strike="noStrike">
                <a:solidFill>
                  <a:srgbClr val="666666"/>
                </a:solidFill>
                <a:latin typeface="Microsoft Sans Serif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buClr>
                <a:srgbClr val="6666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3808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feitos da Radiação no ORGAN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3A0-47BA-47E8-88F5-94B0A745D3C8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F192D-1DD0-4DC8-90D3-9CCD0BDAE7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1" name=""/>
          <p:cNvGraphicFramePr/>
          <p:nvPr/>
        </p:nvGraphicFramePr>
        <p:xfrm>
          <a:off x="1447920" y="1066680"/>
          <a:ext cx="6400800" cy="50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6680"/>
                    <a:ext cx="640080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feitos da Radiação no ORGAN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8678-CDBF-4820-AEBF-6999502E87E3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53C4C-6778-454C-810D-7AC84003B24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"/>
          <p:cNvGraphicFramePr/>
          <p:nvPr/>
        </p:nvGraphicFramePr>
        <p:xfrm>
          <a:off x="1447920" y="990720"/>
          <a:ext cx="6324480" cy="48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90720"/>
                    <a:ext cx="632448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feitos da Radiação no ORGAN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9B6-6386-4B1B-8D6A-E46805D48428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AAF43-A48C-4866-844A-F293860821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755280" y="1268280"/>
            <a:ext cx="7543800" cy="406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499"/>
              </a:spcBef>
              <a:buClr>
                <a:srgbClr val="6666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66"/>
                </a:solidFill>
                <a:latin typeface="Microsoft Sans Serif"/>
              </a:rPr>
              <a:t> </a:t>
            </a:r>
            <a:r>
              <a:rPr b="1" lang="pt-BR" sz="2000" spc="-1" strike="noStrike">
                <a:solidFill>
                  <a:srgbClr val="666666"/>
                </a:solidFill>
                <a:latin typeface="Microsoft Sans Serif"/>
              </a:rPr>
              <a:t>Fora das guerras, o perigo nuclear está, principalmente, nos riscos operacionais das usinas. </a:t>
            </a:r>
            <a:r>
              <a:rPr b="1" lang="pt-BR" sz="2000" spc="-1" strike="noStrike">
                <a:solidFill>
                  <a:srgbClr val="000000"/>
                </a:solidFill>
                <a:latin typeface="Microsoft Sans Serif"/>
              </a:rPr>
              <a:t>Os maiores problemas são os rejeitos radioativos</a:t>
            </a:r>
            <a:r>
              <a:rPr b="1" lang="pt-BR" sz="2000" spc="-1" strike="noStrike">
                <a:solidFill>
                  <a:srgbClr val="666666"/>
                </a:solidFill>
                <a:latin typeface="Microsoft Sans Serif"/>
              </a:rPr>
              <a:t>, que podem contaminar o solo e seus lençóis d’água e o risco de vazam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buClr>
                <a:srgbClr val="6666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66"/>
                </a:solidFill>
                <a:latin typeface="Microsoft Sans Serif"/>
              </a:rPr>
              <a:t> </a:t>
            </a:r>
            <a:r>
              <a:rPr b="1" lang="pt-BR" sz="2000" spc="-1" strike="noStrike">
                <a:solidFill>
                  <a:srgbClr val="666666"/>
                </a:solidFill>
                <a:latin typeface="Microsoft Sans Serif"/>
              </a:rPr>
              <a:t>O vazamento da Usina de Tchernobyl, em 1986, na antiga União Soviética, fez milhares de vítimas. Em 1979, houve vazamento na usina de Three Miles Islands, nos E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buClr>
                <a:srgbClr val="6666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66"/>
                </a:solidFill>
                <a:latin typeface="Microsoft Sans Serif"/>
              </a:rPr>
              <a:t>No Brasil, um acidente em Goiânia, em 1987, levou à morte várias pessoas que tiveram contato com uma ampola contendo Césio-147, encontrada num lixo hospita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feitos da Radiação no ORGAN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896-ADB4-4ECA-987E-42DB229336A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7AC92-A961-402D-B2CD-6A3C9F2A41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685440" y="914400"/>
            <a:ext cx="7559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Microsoft Sans Serif"/>
                <a:ea typeface="Times New Roman"/>
              </a:rPr>
              <a:t>Efeitos Causados pela Explosão de uma Bomba Nuclear de 1 Mega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 - Radiação nuclear inicial (Em 0,000.001 s, o gás da fissão forma um ponto brilhante, a radiação mata a 15 km de distância do centro da explosão nuclear, quem foi contaminad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 - Pulso eletromagnético (Em 0,001 s, forma-se uma bola de 150 m de diâmetro, ocorre o pulso magnético, que pode provocar colapso energético num país inteiro, danificando até 200 km de altura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 - Pulso térmico (Em 2 s, um sol de 4,5 km de diâmetro, queima tudo num raio de 5 km, matando ou cegando quem não estiver protegid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 - Onda de choque (Em 5 s, a onda de choque destrói tudo num raio de 7 km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5 - Poeira radioativa (Cada bomba contamina 2.500 km</a:t>
            </a:r>
            <a:r>
              <a:rPr b="0" lang="pt-BR" sz="2000" spc="-1" strike="noStrike" baseline="30000">
                <a:solidFill>
                  <a:srgbClr val="000000"/>
                </a:solidFill>
                <a:latin typeface="Microsoft Sans Serif"/>
                <a:ea typeface="Times New Roman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matando 50% da populaçã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Times New Roman"/>
              </a:rPr>
              <a:t>Nota: 1 Megaton </a:t>
            </a: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1" lang="pt-BR" sz="1800" spc="-1" strike="noStrike">
                <a:solidFill>
                  <a:srgbClr val="ff0000"/>
                </a:solidFill>
                <a:latin typeface="Times New Roman"/>
              </a:rPr>
              <a:t> 1000 toneladas de T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feitos da Radiação no ORGAN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A37C-7D20-40FD-9C71-67B9B1668AE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7AFC5-48C1-4B88-84E5-214B17963F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0" y="2017800"/>
            <a:ext cx="696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914400"/>
          <a:ext cx="7772400" cy="507996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.º de Unidades em Ope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ac Geração -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º Unid em Constr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ac. Geração -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0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frica do Su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40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manh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49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genti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  <a:tr h="40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men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stretch/>
                    </a:blipFill>
                  </a:tcPr>
                </a:tc>
              </a:tr>
              <a:tr h="40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élg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stretch/>
                    </a:blipFill>
                  </a:tcPr>
                </a:tc>
              </a:tr>
              <a:tr h="40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s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stretch/>
                    </a:blipFill>
                  </a:tcPr>
                </a:tc>
              </a:tr>
              <a:tr h="40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lgár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3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stretch/>
                    </a:blipFill>
                  </a:tcPr>
                </a:tc>
              </a:tr>
              <a:tr h="405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adá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9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9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stretch/>
                    </a:blipFill>
                  </a:tcPr>
                </a:tc>
              </a:tr>
              <a:tr h="40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1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6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stretch/>
                    </a:blipFill>
                  </a:tcPr>
                </a:tc>
              </a:tr>
              <a:tr h="40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na (Taiwan)</a:t>
                      </a: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stretch/>
                    </a:blipFill>
                  </a:tcPr>
                </a:tc>
              </a:tr>
              <a:tr h="405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é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5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  <a:ea typeface="Arial"/>
              </a:rPr>
              <a:t>Geração de Energia Elétrica Termonu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1D39-6039-4970-BAFC-D9A73C122DA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DECE0-370C-44A1-A434-E002418CEE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0" y="2017800"/>
            <a:ext cx="696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33520" y="838080"/>
          <a:ext cx="7772400" cy="507996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.º de Unidades em Ope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ac Geração -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º Unid em Constr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ac. Geração -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0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lovên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40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anh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49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ados Unid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4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  <a:tr h="40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lând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stretch/>
                    </a:blipFill>
                  </a:tcPr>
                </a:tc>
              </a:tr>
              <a:tr h="40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ç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0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stretch/>
                    </a:blipFill>
                  </a:tcPr>
                </a:tc>
              </a:tr>
              <a:tr h="40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ã-Bretanh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stretch/>
                    </a:blipFill>
                  </a:tcPr>
                </a:tc>
              </a:tr>
              <a:tr h="40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land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stretch/>
                    </a:blipFill>
                  </a:tcPr>
                </a:tc>
              </a:tr>
              <a:tr h="405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ngr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9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stretch/>
                    </a:blipFill>
                  </a:tcPr>
                </a:tc>
              </a:tr>
              <a:tr h="40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nd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1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stretch/>
                    </a:blipFill>
                  </a:tcPr>
                </a:tc>
              </a:tr>
              <a:tr h="40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ã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stretch/>
                    </a:blipFill>
                  </a:tcPr>
                </a:tc>
              </a:tr>
              <a:tr h="405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p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4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5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  <a:ea typeface="Arial"/>
              </a:rPr>
              <a:t>Geração de Energia Elétrica Termonu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F192-3189-40D5-8711-252519F9788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96840-70C4-4CA1-8392-B47917B959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0" y="2017800"/>
            <a:ext cx="696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09480" y="762120"/>
          <a:ext cx="7772400" cy="54277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.º de Unidades em Ope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ac Geração -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º Unid em Constr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ac. Geração -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tuân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40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xic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498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quistã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ública Eslová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stretch/>
                    </a:blipFill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ública Tche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6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stretch/>
                    </a:blipFill>
                  </a:tcPr>
                </a:tc>
              </a:tr>
              <a:tr h="33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mên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stretch/>
                    </a:blipFill>
                  </a:tcPr>
                </a:tc>
              </a:tr>
              <a:tr h="40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úss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4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stretch/>
                    </a:blipFill>
                  </a:tcPr>
                </a:tc>
              </a:tr>
              <a:tr h="40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éc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9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stretch/>
                    </a:blipFill>
                  </a:tcPr>
                </a:tc>
              </a:tr>
              <a:tr h="40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íç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1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9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stretch/>
                    </a:blipFill>
                  </a:tcPr>
                </a:tc>
              </a:tr>
              <a:tr h="40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crân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stretch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stretch/>
                    </a:blipFill>
                  </a:tcPr>
                </a:tc>
              </a:tr>
              <a:tr h="403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132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7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5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5334120" y="6248520"/>
            <a:ext cx="281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nte: IAEA PRIS DATA BANK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  <a:ea typeface="Arial"/>
              </a:rPr>
              <a:t>Geração de Energia Elétrica Termonu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960-9879-421D-AB73-B5844EEB184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3ECB7-73D8-415A-B56A-1F372E48F0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600200" y="1679400"/>
          <a:ext cx="5562720" cy="37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9400"/>
                    <a:ext cx="5562720" cy="37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  <a:ea typeface="Arial"/>
              </a:rPr>
              <a:t>Funcionamento de uma usina nu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15A2-730E-42B8-8913-F31082E8597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DEF88-BEEB-4AC6-8A07-B1473B2E29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minério de uranio de Itataia"/>
          <p:cNvPicPr/>
          <p:nvPr/>
        </p:nvPicPr>
        <p:blipFill>
          <a:blip r:embed="rId1"/>
          <a:stretch/>
        </p:blipFill>
        <p:spPr>
          <a:xfrm>
            <a:off x="1600200" y="685800"/>
            <a:ext cx="63244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846520" y="2624040"/>
            <a:ext cx="6965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3733920"/>
            <a:ext cx="76197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Minério de urânio é toda concentração natural de mineral ou minerais na qual o urânio ocorre em proporções e condições tais que permitam sua exploração econômica</a:t>
            </a:r>
            <a:r>
              <a:rPr b="1" lang="en-US" sz="1600" spc="-1" strike="noStrike">
                <a:solidFill>
                  <a:srgbClr val="70809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 elemento químico Urânio é um metal branco-níquel, pouco menos duro que o aço e encontra-se, em estado natural, nas rochas da crosta terrestre. Sua principal aplicação comercial é na geração de energia elétrica, na qualidade de combustível para reatores nucleares de potência. É também utilizado na produção de material radioativo para uso na medicina e na agricultur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crosoft Sans Serif"/>
                <a:ea typeface="Arial"/>
              </a:rPr>
              <a:t>Minério de Urâ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04E5-0DCE-4576-8705-7A69B6854A5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99E2E-3486-4CE5-BBCF-DCB575EFDD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12:18:35Z</dcterms:created>
  <dc:creator>MOBY</dc:creator>
  <dc:description/>
  <dc:language>en-US</dc:language>
  <cp:lastModifiedBy>Petrobras</cp:lastModifiedBy>
  <dcterms:modified xsi:type="dcterms:W3CDTF">2005-03-21T18:48:00Z</dcterms:modified>
  <cp:revision>119</cp:revision>
  <dc:subject/>
  <dc:title>Apresentação do PowerPoint</dc:title>
</cp:coreProperties>
</file>